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7.jpeg" ContentType="image/jpe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12.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2B2F-627C-4A6B-A5AE-A2840BAE755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F358-74FF-452D-B478-F83CF50DD88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0A9B-697B-4483-9640-4C3A5B69BB0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D516-2D16-4BE4-BA46-293A23EC7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29862-8387-40D0-AE52-1D268C54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DB0F4-1746-45A4-9F10-01059446E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02572-5823-4D19-A163-6006A3C9A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B9CE8-132E-4032-8461-4059ADB59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A6EF0-DE18-4100-A740-681D4379E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971D7-2242-4198-8B9A-FF5B3DB58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B8ECF-2C43-4227-8E09-D07913781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4B2BB-C8C4-4313-A2F4-0969677B4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9CAC-CED9-4311-9BA8-0195E1025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5E1B4-91BB-4921-A0C2-FED4055A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0828-590D-49FB-B6B3-5652C5AD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80BB-1389-4A37-9A76-001FD6CC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1434-6F8C-4541-BDBE-92DD8BCF8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0F8AA-1EB5-4700-A23F-B80FFF1A4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FDCED-D9A8-4101-AB57-6F0708574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4EA9C-C619-40B3-B7EB-A9A20D7F2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34F1CC-B1E5-4000-950E-BB6B0F194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35331-1E71-4F9F-8510-8581B54B2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02556C-91B8-4647-9302-70391B1CF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908F2-B6D9-47F9-A035-6EC830DEA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38BAC-8024-40B1-82F2-28C4056BFE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A14E9-C238-4BCE-92FD-7622F924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DF489-1F4B-4483-B98E-B9A22B647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9AA11-2344-45AA-8076-083781C56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5330C-89C4-42DF-B49A-15C7349E0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D114C-95C7-4A94-B95D-D6D7AA1D0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F48E8-4BCF-4F58-A198-8C153A861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38F52C-2BF8-4718-89C8-995A604F2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3DB908-74E7-421A-9DE9-F7E821180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8F3CBB-E377-4C2B-B54D-98E006FB3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5213A-E10E-4633-979B-C65532D6A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E6B12-4041-4AF9-9966-071404481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ECFB-DBB0-4E0E-9567-DC53906A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AA675-B83F-4B65-80CA-6A8FCA7B5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C1818-4075-4DA2-9D1C-A2ACCDF1A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30305-1F9C-433E-837C-51B4A8F01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6AEE7-B04A-4F62-BEC8-A181180CA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FFDFE-0A53-47A8-B10F-ABC2B518E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0AA30-1BC3-4B17-80CA-1006D883F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C8000-E4B4-4E8A-89D4-B28A65570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7395C-B7CA-4AC4-A051-91B5347F09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C4111-16EF-4BA8-8D09-E858F2BCC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5280AE-BFA9-469D-85B0-07DC2A1B2F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BE36-23A5-4C18-9D2F-0C24D9A8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BDD5D-A072-42E4-84F9-537F3FEDD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99B9B-0ABD-4691-9F57-9BDFB4176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B37B9-78B1-4B21-8371-6E6A70D8B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3CE90-4B83-4894-B375-435A31B87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0EF20-62CF-4029-910E-661F2411E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ABE06-30AB-4183-95FE-BCE7CA56D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79EB4-6C84-41A1-A1C6-DBC7B52E1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D2D5B-8C12-44BF-85FA-2A5293EF2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98677-A670-493C-A55B-1CFE8C6EB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71554F-F2FF-4B27-9654-D67EE4A783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9CF0-4C2C-4751-935E-6C350687E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C78D1B-A774-4599-BA3F-1167EA7764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A57083-E18E-4CB2-90BE-B48A08A59B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17A72-F1D0-4963-A591-E17253055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0E8A9-8A64-4B6A-9907-F94457DA7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EAD89-D04A-44A0-B337-101B17CAE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B9549-BFBC-4F5D-8F60-06D0C0507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D9049-3DFC-4B39-8A31-6E08495BE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2E218-DB08-4DC7-B563-C2828388C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794E5-FF0E-456C-9BAF-8B0BA27EA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42E4D-09BB-45FA-A4AB-1BEAE9EB3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6C86-4B53-4183-AC7C-29B31D2D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C8DF3-B517-4EA4-ADF0-051B3AED18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C1FBAB-9A78-4665-A82C-0B8D5257E6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D14EDA-7832-4AFE-B373-979B9884DF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E4DC-0151-4F55-A4EE-FBFE138FA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591E-711B-41A9-BB23-5535C1C26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B45A-ABD7-4B95-B34C-01C4730C32E4}"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1036800"/>
            <a:ext cx="8643960" cy="29880"/>
            <a:chOff x="506520" y="1036800"/>
            <a:chExt cx="8643960" cy="29880"/>
          </a:xfrm>
        </p:grpSpPr>
        <p:pic>
          <p:nvPicPr>
            <p:cNvPr id="51" name="6 - Ευθεία γραμμή σύνδεσης"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 name="8 - Ευθεία γραμμή σύνδεσης"/>
          <p:cNvGrpSpPr/>
          <p:nvPr/>
        </p:nvGrpSpPr>
        <p:grpSpPr>
          <a:xfrm>
            <a:off x="506520" y="1036800"/>
            <a:ext cx="8643960" cy="29880"/>
            <a:chOff x="506520" y="1036800"/>
            <a:chExt cx="8643960" cy="29880"/>
          </a:xfrm>
        </p:grpSpPr>
        <p:pic>
          <p:nvPicPr>
            <p:cNvPr id="54" name="8 - Ευθεία γραμμή σύνδεσης"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11 - Ευθεία γραμμή σύνδεσης"/>
          <p:cNvGrpSpPr/>
          <p:nvPr/>
        </p:nvGrpSpPr>
        <p:grpSpPr>
          <a:xfrm>
            <a:off x="506520" y="1047600"/>
            <a:ext cx="8643960" cy="25560"/>
            <a:chOff x="506520" y="1047600"/>
            <a:chExt cx="8643960" cy="25560"/>
          </a:xfrm>
        </p:grpSpPr>
        <p:pic>
          <p:nvPicPr>
            <p:cNvPr id="57" name="11 - Ευθεία γραμμή σύνδεσης"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12 - Ευθεία γραμμή σύνδεσης"/>
          <p:cNvGrpSpPr/>
          <p:nvPr/>
        </p:nvGrpSpPr>
        <p:grpSpPr>
          <a:xfrm>
            <a:off x="506520" y="5340240"/>
            <a:ext cx="8643960" cy="23760"/>
            <a:chOff x="506520" y="5340240"/>
            <a:chExt cx="8643960" cy="23760"/>
          </a:xfrm>
        </p:grpSpPr>
        <p:pic>
          <p:nvPicPr>
            <p:cNvPr id="60" name="12 - Ευθεία γραμμή σύνδεσης"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73CE-7CB3-480A-AD0D-7EC844EBF773}"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03" name="6 - Ευθεία γραμμή σύνδεσης"/>
          <p:cNvGrpSpPr/>
          <p:nvPr/>
        </p:nvGrpSpPr>
        <p:grpSpPr>
          <a:xfrm>
            <a:off x="506520" y="1036800"/>
            <a:ext cx="8643960" cy="29880"/>
            <a:chOff x="506520" y="1036800"/>
            <a:chExt cx="8643960" cy="29880"/>
          </a:xfrm>
        </p:grpSpPr>
        <p:pic>
          <p:nvPicPr>
            <p:cNvPr id="10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8 - Ευθεία γραμμή σύνδεσης"/>
          <p:cNvGrpSpPr/>
          <p:nvPr/>
        </p:nvGrpSpPr>
        <p:grpSpPr>
          <a:xfrm>
            <a:off x="506520" y="1036800"/>
            <a:ext cx="8643960" cy="29880"/>
            <a:chOff x="506520" y="1036800"/>
            <a:chExt cx="8643960" cy="29880"/>
          </a:xfrm>
        </p:grpSpPr>
        <p:pic>
          <p:nvPicPr>
            <p:cNvPr id="10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11 - Ευθεία γραμμή σύνδεσης"/>
          <p:cNvGrpSpPr/>
          <p:nvPr/>
        </p:nvGrpSpPr>
        <p:grpSpPr>
          <a:xfrm>
            <a:off x="506520" y="1047600"/>
            <a:ext cx="8643960" cy="25560"/>
            <a:chOff x="506520" y="1047600"/>
            <a:chExt cx="8643960" cy="25560"/>
          </a:xfrm>
        </p:grpSpPr>
        <p:pic>
          <p:nvPicPr>
            <p:cNvPr id="11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229F-7350-404A-A8AA-B8FF146ABC4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53" name="6 - Ευθεία γραμμή σύνδεσης"/>
          <p:cNvGrpSpPr/>
          <p:nvPr/>
        </p:nvGrpSpPr>
        <p:grpSpPr>
          <a:xfrm>
            <a:off x="506520" y="1036800"/>
            <a:ext cx="8643960" cy="29880"/>
            <a:chOff x="506520" y="1036800"/>
            <a:chExt cx="8643960" cy="29880"/>
          </a:xfrm>
        </p:grpSpPr>
        <p:pic>
          <p:nvPicPr>
            <p:cNvPr id="15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8 - Ευθεία γραμμή σύνδεσης"/>
          <p:cNvGrpSpPr/>
          <p:nvPr/>
        </p:nvGrpSpPr>
        <p:grpSpPr>
          <a:xfrm>
            <a:off x="506520" y="1036800"/>
            <a:ext cx="8643960" cy="29880"/>
            <a:chOff x="506520" y="1036800"/>
            <a:chExt cx="8643960" cy="29880"/>
          </a:xfrm>
        </p:grpSpPr>
        <p:pic>
          <p:nvPicPr>
            <p:cNvPr id="15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11 - Ευθεία γραμμή σύνδεσης"/>
          <p:cNvGrpSpPr/>
          <p:nvPr/>
        </p:nvGrpSpPr>
        <p:grpSpPr>
          <a:xfrm>
            <a:off x="506520" y="1047600"/>
            <a:ext cx="8643960" cy="25560"/>
            <a:chOff x="506520" y="1047600"/>
            <a:chExt cx="8643960" cy="25560"/>
          </a:xfrm>
        </p:grpSpPr>
        <p:pic>
          <p:nvPicPr>
            <p:cNvPr id="16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12 - Ευθεία γραμμή σύνδεσης"/>
          <p:cNvGrpSpPr/>
          <p:nvPr/>
        </p:nvGrpSpPr>
        <p:grpSpPr>
          <a:xfrm>
            <a:off x="506520" y="3432240"/>
            <a:ext cx="8643960" cy="23760"/>
            <a:chOff x="506520" y="3432240"/>
            <a:chExt cx="8643960" cy="23760"/>
          </a:xfrm>
        </p:grpSpPr>
        <p:pic>
          <p:nvPicPr>
            <p:cNvPr id="163" name="12 - Ευθεία γραμμή σύνδεσης"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Click to edit the outline text format</a:t>
            </a:r>
            <a:endParaRPr b="0" lang="en-US" sz="3200" spc="-1" strike="noStrike">
              <a:solidFill>
                <a:srgbClr val="fbeec9"/>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cond Outline Level</a:t>
            </a:r>
            <a:endParaRPr b="0" lang="en-US" sz="3200" spc="-1" strike="noStrike">
              <a:solidFill>
                <a:srgbClr val="fbeec9"/>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Third Outline Level</a:t>
            </a:r>
            <a:endParaRPr b="0" lang="en-US" sz="3200" spc="-1" strike="noStrike">
              <a:solidFill>
                <a:srgbClr val="fbeec9"/>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ourth Outline Level</a:t>
            </a:r>
            <a:endParaRPr b="0" lang="en-US" sz="3200" spc="-1" strike="noStrike">
              <a:solidFill>
                <a:srgbClr val="fbeec9"/>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ifth Outline Level</a:t>
            </a:r>
            <a:endParaRPr b="0" lang="en-US" sz="3200" spc="-1" strike="noStrike">
              <a:solidFill>
                <a:srgbClr val="fbeec9"/>
              </a:solidFill>
              <a:latin typeface="Arial"/>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ixth Outline Level</a:t>
            </a:r>
            <a:endParaRPr b="0" lang="en-US" sz="3200" spc="-1" strike="noStrike">
              <a:solidFill>
                <a:srgbClr val="fbeec9"/>
              </a:solidFill>
              <a:latin typeface="Arial"/>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venth Outline Level</a:t>
            </a:r>
            <a:endParaRPr b="0" lang="en-US" sz="3200" spc="-1" strike="noStrike">
              <a:solidFill>
                <a:srgbClr val="fbeec9"/>
              </a:solidFill>
              <a:latin typeface="Arial"/>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80BB-1977-4256-BBBA-6031E7A9C895}"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06" name="6 - Ευθεία γραμμή σύνδεσης"/>
          <p:cNvGrpSpPr/>
          <p:nvPr/>
        </p:nvGrpSpPr>
        <p:grpSpPr>
          <a:xfrm>
            <a:off x="506520" y="1036800"/>
            <a:ext cx="8643960" cy="29880"/>
            <a:chOff x="506520" y="1036800"/>
            <a:chExt cx="8643960" cy="29880"/>
          </a:xfrm>
        </p:grpSpPr>
        <p:pic>
          <p:nvPicPr>
            <p:cNvPr id="207" name="6 - Ευθεία γραμμή σύνδεσης"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8 - Ευθεία γραμμή σύνδεσης"/>
          <p:cNvGrpSpPr/>
          <p:nvPr/>
        </p:nvGrpSpPr>
        <p:grpSpPr>
          <a:xfrm>
            <a:off x="506520" y="1036800"/>
            <a:ext cx="8643960" cy="29880"/>
            <a:chOff x="506520" y="1036800"/>
            <a:chExt cx="8643960" cy="29880"/>
          </a:xfrm>
        </p:grpSpPr>
        <p:pic>
          <p:nvPicPr>
            <p:cNvPr id="210" name="8 - Ευθεία γραμμή σύνδεσης"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11 - Ευθεία γραμμή σύνδεσης"/>
          <p:cNvGrpSpPr/>
          <p:nvPr/>
        </p:nvGrpSpPr>
        <p:grpSpPr>
          <a:xfrm>
            <a:off x="506520" y="1047600"/>
            <a:ext cx="8643960" cy="25560"/>
            <a:chOff x="506520" y="1047600"/>
            <a:chExt cx="8643960" cy="25560"/>
          </a:xfrm>
        </p:grpSpPr>
        <p:pic>
          <p:nvPicPr>
            <p:cNvPr id="213"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 name="12 - Ευθεία γραμμή σύνδεσης"/>
          <p:cNvGrpSpPr/>
          <p:nvPr/>
        </p:nvGrpSpPr>
        <p:grpSpPr>
          <a:xfrm>
            <a:off x="506520" y="6010200"/>
            <a:ext cx="8643960" cy="25560"/>
            <a:chOff x="506520" y="6010200"/>
            <a:chExt cx="8643960" cy="25560"/>
          </a:xfrm>
        </p:grpSpPr>
        <p:pic>
          <p:nvPicPr>
            <p:cNvPr id="216" name="12 - Ευθεία γραμμή σύνδεσης"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366B-1B86-45FF-AD70-A4E1C3BAD74C}"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59" name="6 - Ευθεία γραμμή σύνδεσης"/>
          <p:cNvGrpSpPr/>
          <p:nvPr/>
        </p:nvGrpSpPr>
        <p:grpSpPr>
          <a:xfrm>
            <a:off x="506520" y="1036800"/>
            <a:ext cx="8643960" cy="29880"/>
            <a:chOff x="506520" y="1036800"/>
            <a:chExt cx="8643960" cy="29880"/>
          </a:xfrm>
        </p:grpSpPr>
        <p:pic>
          <p:nvPicPr>
            <p:cNvPr id="260" name="6 - Ευθεία γραμμή σύνδεσης"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8 - Ευθεία γραμμή σύνδεσης"/>
          <p:cNvGrpSpPr/>
          <p:nvPr/>
        </p:nvGrpSpPr>
        <p:grpSpPr>
          <a:xfrm>
            <a:off x="506520" y="1036800"/>
            <a:ext cx="8643960" cy="29880"/>
            <a:chOff x="506520" y="1036800"/>
            <a:chExt cx="8643960" cy="29880"/>
          </a:xfrm>
        </p:grpSpPr>
        <p:pic>
          <p:nvPicPr>
            <p:cNvPr id="263" name="8 - Ευθεία γραμμή σύνδεσης"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11 - Ευθεία γραμμή σύνδεσης"/>
          <p:cNvGrpSpPr/>
          <p:nvPr/>
        </p:nvGrpSpPr>
        <p:grpSpPr>
          <a:xfrm>
            <a:off x="506520" y="1047600"/>
            <a:ext cx="8643960" cy="25560"/>
            <a:chOff x="506520" y="1047600"/>
            <a:chExt cx="8643960" cy="25560"/>
          </a:xfrm>
        </p:grpSpPr>
        <p:pic>
          <p:nvPicPr>
            <p:cNvPr id="266"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12 - Ευθεία γραμμή σύνδεσης"/>
          <p:cNvGrpSpPr/>
          <p:nvPr/>
        </p:nvGrpSpPr>
        <p:grpSpPr>
          <a:xfrm>
            <a:off x="506520" y="5840280"/>
            <a:ext cx="8643960" cy="24120"/>
            <a:chOff x="506520" y="5840280"/>
            <a:chExt cx="8643960" cy="24120"/>
          </a:xfrm>
        </p:grpSpPr>
        <p:pic>
          <p:nvPicPr>
            <p:cNvPr id="269" name="12 - Ευθεία γραμμή σύνδεσης"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35A8-BA4E-42EF-9723-880E20C8171B}"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1071720"/>
            <a:ext cx="7772400" cy="502416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a:t>
            </a:r>
            <a:r>
              <a:rPr b="1" lang="en-US" sz="3200" spc="-1" strike="noStrike">
                <a:solidFill>
                  <a:srgbClr val="4e3b30"/>
                </a:solidFill>
                <a:latin typeface="Arial"/>
              </a:rPr>
              <a:t>TA</a:t>
            </a:r>
            <a:r>
              <a:rPr b="1" lang="el-GR" sz="3200" spc="-1" strike="noStrike">
                <a:solidFill>
                  <a:srgbClr val="4e3b30"/>
                </a:solidFill>
                <a:latin typeface="Arial"/>
              </a:rPr>
              <a:t> ΑΝΑΚΑΛΥΠΤΙΚΗΣ / ΔΙΕΡΕΥΝΗΤΙΚΗΣ ΔΙΔΑΣΚΑΛΙΑΣ</a:t>
            </a: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ΤΑ ΔΙΔΑΚΤΙΚΟΥ ΜΕΤΑΣΧΗΜΑΤΙΣΜΟΥ ΤΟΥ ΠΕΡΙΕΧΟΜΕΝΟΥ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1 - Τίτλος" descr=""/>
          <p:cNvPicPr/>
          <p:nvPr/>
        </p:nvPicPr>
        <p:blipFill>
          <a:blip r:embed="rId1"/>
          <a:stretch/>
        </p:blipFill>
        <p:spPr>
          <a:xfrm>
            <a:off x="122400" y="208080"/>
            <a:ext cx="9107280" cy="2492280"/>
          </a:xfrm>
          <a:prstGeom prst="rect">
            <a:avLst/>
          </a:prstGeom>
          <a:ln w="0">
            <a:noFill/>
          </a:ln>
        </p:spPr>
      </p:pic>
      <p:sp>
        <p:nvSpPr>
          <p:cNvPr id="343" name="PlaceHolder 1"/>
          <p:cNvSpPr>
            <a:spLocks noGrp="1"/>
          </p:cNvSpPr>
          <p:nvPr>
            <p:ph type="subTitle"/>
          </p:nvPr>
        </p:nvSpPr>
        <p:spPr>
          <a:xfrm>
            <a:off x="357120" y="2642760"/>
            <a:ext cx="8501040" cy="1071720"/>
          </a:xfrm>
          <a:prstGeom prst="rect">
            <a:avLst/>
          </a:prstGeom>
          <a:blipFill rotWithShape="0">
            <a:blip r:embed="rId2"/>
            <a:tile tx="0" ty="0" sx="100000" sy="100000" algn="ctr"/>
          </a:blip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523227"/>
                </a:solidFill>
                <a:uFillTx/>
                <a:latin typeface="Arial"/>
              </a:rPr>
              <a:t>ΥΛΙΚΑ</a:t>
            </a:r>
            <a:r>
              <a:rPr b="0" lang="el-GR" sz="2800" spc="-1" strike="noStrike">
                <a:solidFill>
                  <a:srgbClr val="523227"/>
                </a:solidFill>
                <a:latin typeface="Arial"/>
              </a:rPr>
              <a:t>: Πρόκα, ξύλο, καλαμάκι, χαλκό, αλουμίνιο, μολύβι λάστιχο, βίδα, …… </a:t>
            </a:r>
            <a:endParaRPr b="0" lang="en-US" sz="2800" spc="-1" strike="noStrike">
              <a:solidFill>
                <a:srgbClr val="4e3b30"/>
              </a:solidFill>
              <a:latin typeface="Arial"/>
            </a:endParaRPr>
          </a:p>
        </p:txBody>
      </p:sp>
      <p:sp>
        <p:nvSpPr>
          <p:cNvPr id="344" name="2 - Υπότιτλος"/>
          <p:cNvSpPr/>
          <p:nvPr/>
        </p:nvSpPr>
        <p:spPr>
          <a:xfrm>
            <a:off x="357120" y="3929040"/>
            <a:ext cx="8572680" cy="2928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Υπόθεση – Πρόβλεψη</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Έλεγχος Πρόβλεψης: Πως θα ελέγξετε αν τα χωρίσατε σωστά: Δοκιμή με τον μαγνήτ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Εξαγωγή Συμπεράσματος: Τελικά ποια σώματα «τραβάει» και ποια όχ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304920" y="268200"/>
            <a:ext cx="8802720" cy="1816200"/>
          </a:xfrm>
          <a:prstGeom prst="rect">
            <a:avLst/>
          </a:prstGeom>
          <a:ln w="0">
            <a:noFill/>
          </a:ln>
        </p:spPr>
      </p:pic>
      <p:sp>
        <p:nvSpPr>
          <p:cNvPr id="346" name=""/>
          <p:cNvSpPr txBox="1"/>
          <p:nvPr/>
        </p:nvSpPr>
        <p:spPr>
          <a:xfrm>
            <a:off x="457200" y="2214720"/>
            <a:ext cx="8229600" cy="2000160"/>
          </a:xfrm>
          <a:prstGeom prst="rect">
            <a:avLst/>
          </a:prstGeom>
          <a:solidFill>
            <a:srgbClr val="ffffff"/>
          </a:solidFill>
          <a:ln w="0">
            <a:noFill/>
          </a:ln>
        </p:spPr>
        <p:txBody>
          <a:bodyPr anchor="t">
            <a:normAutofit/>
          </a:bodyPr>
          <a:p>
            <a:pPr marL="343080" indent="-343080">
              <a:spcBef>
                <a:spcPts val="751"/>
              </a:spcBef>
              <a:buClr>
                <a:srgbClr val="321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ΕΙΡΟΘΕΤΗΣΗ ΜΑΓΝΗΤΩΝ: Πως θα βάλτε στη σειρά αυτούς τους τρεις μαγνήτες από το πιο δυνατό στο λιγότερο δυνατό (Πως θα ελέγξετε ποιος είναι ο δυνατότερος;)</a:t>
            </a:r>
            <a:endParaRPr b="0" lang="en-US" sz="3000" spc="-1" strike="noStrike">
              <a:solidFill>
                <a:srgbClr val="4e3b30"/>
              </a:solidFill>
              <a:latin typeface="Arial"/>
            </a:endParaRPr>
          </a:p>
        </p:txBody>
      </p:sp>
      <p:sp>
        <p:nvSpPr>
          <p:cNvPr id="347" name="2 - Θέση περιεχομένου"/>
          <p:cNvSpPr/>
          <p:nvPr/>
        </p:nvSpPr>
        <p:spPr>
          <a:xfrm>
            <a:off x="428760" y="4643280"/>
            <a:ext cx="8229600" cy="15717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Επίδειξη από τον εκπαιδευτικό ή</a:t>
            </a:r>
            <a:endParaRPr b="0" lang="en-US" sz="3400" spc="-1" strike="noStrike">
              <a:solidFill>
                <a:srgbClr val="000000"/>
              </a:solidFill>
              <a:latin typeface="Times New Roman"/>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μαδική εργασία (καθοδηγούμενη)</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195120" y="208080"/>
            <a:ext cx="8972640" cy="2492280"/>
          </a:xfrm>
          <a:prstGeom prst="rect">
            <a:avLst/>
          </a:prstGeom>
          <a:ln w="0">
            <a:noFill/>
          </a:ln>
        </p:spPr>
      </p:pic>
      <p:sp>
        <p:nvSpPr>
          <p:cNvPr id="349" name="PlaceHolder 1"/>
          <p:cNvSpPr>
            <a:spLocks noGrp="1"/>
          </p:cNvSpPr>
          <p:nvPr>
            <p:ph type="subTitle"/>
          </p:nvPr>
        </p:nvSpPr>
        <p:spPr>
          <a:xfrm>
            <a:off x="285840" y="2857680"/>
            <a:ext cx="8572320" cy="785520"/>
          </a:xfrm>
          <a:prstGeom prst="rect">
            <a:avLst/>
          </a:prstGeom>
          <a:blipFill rotWithShape="0">
            <a:blip r:embed="rId2"/>
            <a:tile tx="0" ty="0" sx="100000" sy="100000" algn="ctr"/>
          </a:blip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όμοιοι εξωτερικά μαγνήτες και συνδετήρες </a:t>
            </a:r>
            <a:endParaRPr b="0" lang="en-US" sz="3200" spc="-1" strike="noStrike">
              <a:solidFill>
                <a:srgbClr val="4e3b30"/>
              </a:solidFill>
              <a:latin typeface="Arial"/>
            </a:endParaRPr>
          </a:p>
        </p:txBody>
      </p:sp>
      <p:sp>
        <p:nvSpPr>
          <p:cNvPr id="350" name="2 - Υπότιτλος"/>
          <p:cNvSpPr/>
          <p:nvPr/>
        </p:nvSpPr>
        <p:spPr>
          <a:xfrm>
            <a:off x="357120" y="4143240"/>
            <a:ext cx="8501040" cy="2071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Έλεγχος Πρόβλεψης με ή χωρίς Υποβοήθησ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Εξαγωγή Συμπεράσματος (αφορά κυρίως το πώς, παρά το ποιο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85480" y="214200"/>
            <a:ext cx="8643960" cy="6429600"/>
          </a:xfrm>
          <a:prstGeom prst="rect">
            <a:avLst/>
          </a:prstGeom>
          <a:solidFill>
            <a:srgbClr val="ffffcc"/>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Η ΕΝΝΟΙΑ ΤΟΥ ΔΙΔΑΚΤΙΚΟΥ ΜΕΤΑΣΧΗΜΑΤΙΣΜΟΥ ΠΕΡΙΕΧΟΜΕΝΟΥ</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ΡΕΥΣΤΩΝ – ΠΙΕΣΗΣ</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ΔΥΝΑΜΙΚΩΝ ΑΛΛΗΛΕΠΙΔΡΑΣΕΩΝ</a:t>
            </a:r>
            <a:endParaRPr b="0" lang="en-US" sz="3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34800" y="225360"/>
            <a:ext cx="8766360" cy="1768680"/>
          </a:xfrm>
          <a:prstGeom prst="rect">
            <a:avLst/>
          </a:prstGeom>
          <a:ln w="0">
            <a:noFill/>
          </a:ln>
        </p:spPr>
      </p:pic>
      <p:sp>
        <p:nvSpPr>
          <p:cNvPr id="35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στηματική έρευνα μας έδειξε ότι οι μαθητευόμενοι χρησιμοποιούν τρία μοντέλα στην πρόβλεψη και ερμηνεία φαινομένων ρευστών (13-14 και Εκπαιδευτικοί Α’βαθμια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νωστισμένου πλήθου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ιεσοδύναμη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Υγρότητα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Τίτλος 1" descr=""/>
          <p:cNvPicPr/>
          <p:nvPr/>
        </p:nvPicPr>
        <p:blipFill>
          <a:blip r:embed="rId1"/>
          <a:stretch/>
        </p:blipFill>
        <p:spPr>
          <a:xfrm>
            <a:off x="122400" y="109440"/>
            <a:ext cx="9051840" cy="1152720"/>
          </a:xfrm>
          <a:prstGeom prst="rect">
            <a:avLst/>
          </a:prstGeom>
          <a:ln w="0">
            <a:noFill/>
          </a:ln>
        </p:spPr>
      </p:pic>
      <p:pic>
        <p:nvPicPr>
          <p:cNvPr id="355" name="Εικόνα 3" descr=""/>
          <p:cNvPicPr/>
          <p:nvPr/>
        </p:nvPicPr>
        <p:blipFill>
          <a:blip r:embed="rId2"/>
          <a:stretch/>
        </p:blipFill>
        <p:spPr>
          <a:xfrm>
            <a:off x="108000" y="915840"/>
            <a:ext cx="9043920" cy="58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Τίτλος 1" descr=""/>
          <p:cNvPicPr/>
          <p:nvPr/>
        </p:nvPicPr>
        <p:blipFill>
          <a:blip r:embed="rId1"/>
          <a:stretch/>
        </p:blipFill>
        <p:spPr>
          <a:xfrm>
            <a:off x="122400" y="109440"/>
            <a:ext cx="9051840" cy="1152720"/>
          </a:xfrm>
          <a:prstGeom prst="rect">
            <a:avLst/>
          </a:prstGeom>
          <a:ln w="0">
            <a:noFill/>
          </a:ln>
        </p:spPr>
      </p:pic>
      <p:pic>
        <p:nvPicPr>
          <p:cNvPr id="357" name="Εικόνα 2" descr=""/>
          <p:cNvPicPr/>
          <p:nvPr/>
        </p:nvPicPr>
        <p:blipFill>
          <a:blip r:embed="rId2"/>
          <a:stretch/>
        </p:blipFill>
        <p:spPr>
          <a:xfrm>
            <a:off x="250920" y="982800"/>
            <a:ext cx="864216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Τίτλος 1" descr=""/>
          <p:cNvPicPr/>
          <p:nvPr/>
        </p:nvPicPr>
        <p:blipFill>
          <a:blip r:embed="rId1"/>
          <a:stretch/>
        </p:blipFill>
        <p:spPr>
          <a:xfrm>
            <a:off x="219240" y="182520"/>
            <a:ext cx="8699400" cy="1073160"/>
          </a:xfrm>
          <a:prstGeom prst="rect">
            <a:avLst/>
          </a:prstGeom>
          <a:ln w="0">
            <a:noFill/>
          </a:ln>
        </p:spPr>
      </p:pic>
      <p:pic>
        <p:nvPicPr>
          <p:cNvPr id="359" name="Εικόνα 3" descr=""/>
          <p:cNvPicPr/>
          <p:nvPr/>
        </p:nvPicPr>
        <p:blipFill>
          <a:blip r:embed="rId2"/>
          <a:stretch/>
        </p:blipFill>
        <p:spPr>
          <a:xfrm>
            <a:off x="228600" y="1027080"/>
            <a:ext cx="8686800" cy="564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20840" y="-85680"/>
            <a:ext cx="8302320" cy="2238480"/>
          </a:xfrm>
          <a:prstGeom prst="rect">
            <a:avLst/>
          </a:prstGeom>
          <a:ln w="0">
            <a:noFill/>
          </a:ln>
        </p:spPr>
      </p:pic>
      <p:sp>
        <p:nvSpPr>
          <p:cNvPr id="361" name=""/>
          <p:cNvSpPr txBox="1"/>
          <p:nvPr/>
        </p:nvSpPr>
        <p:spPr>
          <a:xfrm>
            <a:off x="428760" y="1905120"/>
            <a:ext cx="8286480" cy="495288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παραδοσιακά εισάγεται ως πηλίκο δύναμης προς επιφάνεια Ρ = </a:t>
            </a:r>
            <a:r>
              <a:rPr b="0" lang="en-US" sz="3200" spc="-1" strike="noStrike">
                <a:solidFill>
                  <a:srgbClr val="4e3b30"/>
                </a:solidFill>
                <a:latin typeface="Arial"/>
              </a:rPr>
              <a:t>F/S</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διδακτικά μετασχηματισμένο περιεχόμενο προβλέπει την ποιοτική εισαγωγή της πίεσης, αλλά και με μέτρηση, ως μέγεθος περιγραφής και ερμηνείας φαινομένων ρευστών</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ποφεύγεται έτσι η ενίσχυση της εναλλακτικής άποψης «Πίεση = Δύναμη»</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378000" y="225360"/>
            <a:ext cx="8546760" cy="1536840"/>
          </a:xfrm>
          <a:prstGeom prst="rect">
            <a:avLst/>
          </a:prstGeom>
          <a:ln w="0">
            <a:noFill/>
          </a:ln>
        </p:spPr>
      </p:pic>
      <p:sp>
        <p:nvSpPr>
          <p:cNvPr id="36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Το έργο: «</a:t>
            </a:r>
            <a:r>
              <a:rPr b="0" i="1" lang="el-GR" sz="2800" spc="-1" strike="noStrike">
                <a:solidFill>
                  <a:srgbClr val="4e3b30"/>
                </a:solidFill>
                <a:latin typeface="Arial"/>
              </a:rPr>
              <a:t>σύγκριση πιέσεων στο πυθμένα φαρδιού – στενού δοχείου που περιέχουν νερό στο ίδιο βάθος</a:t>
            </a:r>
            <a:r>
              <a:rPr b="0" lang="el-GR" sz="2800" spc="-1" strike="noStrike">
                <a:solidFill>
                  <a:srgbClr val="4e3b30"/>
                </a:solidFill>
                <a:latin typeface="Arial"/>
              </a:rPr>
              <a:t>» δεν συναντάται στα παραδοσιακά εγχειρίδια</a:t>
            </a: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Σε ένα πρόγραμμα ανάπτυξης της ΠΓΠ το κάναμε «σημαία» της διδακτικής διαδικασίας, για να διαχειριστούμε διδακτικά τα δυο από τα τρία μοντέλα πίεσης που είναι αντίθετα με την επιστημονική άποψη. </a:t>
            </a: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4" descr=""/>
          <p:cNvPicPr/>
          <p:nvPr/>
        </p:nvPicPr>
        <p:blipFill>
          <a:blip r:embed="rId1"/>
          <a:stretch/>
        </p:blipFill>
        <p:spPr>
          <a:xfrm>
            <a:off x="-30240" y="-6480"/>
            <a:ext cx="9455400" cy="1994040"/>
          </a:xfrm>
          <a:prstGeom prst="rect">
            <a:avLst/>
          </a:prstGeom>
          <a:ln w="0">
            <a:noFill/>
          </a:ln>
        </p:spPr>
      </p:pic>
      <p:sp>
        <p:nvSpPr>
          <p:cNvPr id="321" name=""/>
          <p:cNvSpPr txBox="1"/>
          <p:nvPr/>
        </p:nvSpPr>
        <p:spPr>
          <a:xfrm>
            <a:off x="0" y="1980720"/>
            <a:ext cx="9144000" cy="4419720"/>
          </a:xfrm>
          <a:prstGeom prst="rect">
            <a:avLst/>
          </a:prstGeom>
          <a:solidFill>
            <a:srgbClr val="ffffff"/>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Μέσω της άσκησης των μαθητών /τριών σε ανακαλυπτικές /διερευνητικές δραστηριότητες εξασκούνται οι Νοητικές / Επιστημονικές δεξιότητες των παιδιών.</a:t>
            </a:r>
            <a:endParaRPr b="0" lang="en-US" sz="3200" spc="-1" strike="noStrike">
              <a:solidFill>
                <a:srgbClr val="4e3b30"/>
              </a:solidFill>
              <a:latin typeface="Arial"/>
            </a:endParaRPr>
          </a:p>
          <a:p>
            <a:pPr>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78000" y="225360"/>
            <a:ext cx="8546760" cy="1536840"/>
          </a:xfrm>
          <a:prstGeom prst="rect">
            <a:avLst/>
          </a:prstGeom>
          <a:ln w="0">
            <a:noFill/>
          </a:ln>
        </p:spPr>
      </p:pic>
      <p:sp>
        <p:nvSpPr>
          <p:cNvPr id="365" name=""/>
          <p:cNvSpPr txBox="1"/>
          <p:nvPr/>
        </p:nvSpPr>
        <p:spPr>
          <a:xfrm>
            <a:off x="395280" y="2048040"/>
            <a:ext cx="8462880" cy="4595760"/>
          </a:xfrm>
          <a:prstGeom prst="rect">
            <a:avLst/>
          </a:prstGeom>
          <a:solidFill>
            <a:srgbClr val="ffffcc"/>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άκριση πίεσης – δύναμης προκαλέσαμε γνωστική σύγκρουση (εποικοδομητικό μοντέλο)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απραγμάτευση των παραγόντων που επηρεάζουν την υδροστατική πίεση  ακολουθήσαμε ανακαλυπτικό μοντέλο – ενίσχυσης των ιδεών των μαθητευομένων, γιατί οι ιδέες τους ήταν κοντά στις επιστημονικέ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Τίτλος 1" descr=""/>
          <p:cNvPicPr/>
          <p:nvPr/>
        </p:nvPicPr>
        <p:blipFill>
          <a:blip r:embed="rId1"/>
          <a:stretch/>
        </p:blipFill>
        <p:spPr>
          <a:xfrm>
            <a:off x="66600" y="109440"/>
            <a:ext cx="8918640" cy="957240"/>
          </a:xfrm>
          <a:prstGeom prst="rect">
            <a:avLst/>
          </a:prstGeom>
          <a:ln w="0">
            <a:noFill/>
          </a:ln>
        </p:spPr>
      </p:pic>
      <p:pic>
        <p:nvPicPr>
          <p:cNvPr id="367" name="Εικόνα 3" descr=""/>
          <p:cNvPicPr/>
          <p:nvPr/>
        </p:nvPicPr>
        <p:blipFill>
          <a:blip r:embed="rId2"/>
          <a:stretch/>
        </p:blipFill>
        <p:spPr>
          <a:xfrm>
            <a:off x="250920" y="1095480"/>
            <a:ext cx="8615160" cy="55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281160" y="212760"/>
            <a:ext cx="8581680" cy="2238480"/>
          </a:xfrm>
          <a:prstGeom prst="rect">
            <a:avLst/>
          </a:prstGeom>
          <a:ln w="0">
            <a:noFill/>
          </a:ln>
        </p:spPr>
      </p:pic>
      <p:sp>
        <p:nvSpPr>
          <p:cNvPr id="369" name=""/>
          <p:cNvSpPr txBox="1"/>
          <p:nvPr/>
        </p:nvSpPr>
        <p:spPr>
          <a:xfrm>
            <a:off x="285840" y="2214720"/>
            <a:ext cx="8572320" cy="44431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Arial"/>
              </a:rPr>
              <a:t>   </a:t>
            </a:r>
            <a:r>
              <a:rPr b="0" i="1" lang="el-GR" sz="3200" spc="-1" strike="noStrike">
                <a:solidFill>
                  <a:srgbClr val="4e3b3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Times New Roman"/>
              </a:rPr>
              <a:t>   </a:t>
            </a:r>
            <a:r>
              <a:rPr b="0" i="1" lang="el-GR" sz="3200" spc="-1" strike="noStrike">
                <a:solidFill>
                  <a:srgbClr val="4e3b3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208080" y="268200"/>
            <a:ext cx="8697960" cy="1878120"/>
          </a:xfrm>
          <a:prstGeom prst="rect">
            <a:avLst/>
          </a:prstGeom>
          <a:ln w="0">
            <a:noFill/>
          </a:ln>
        </p:spPr>
      </p:pic>
      <p:sp>
        <p:nvSpPr>
          <p:cNvPr id="371" name=""/>
          <p:cNvSpPr txBox="1"/>
          <p:nvPr/>
        </p:nvSpPr>
        <p:spPr>
          <a:xfrm>
            <a:off x="285840" y="2214720"/>
            <a:ext cx="8572320" cy="400032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γνώσης ιδιαίτερων χαρακτηριστικών μαθητευομένων, σχολείου</a:t>
            </a:r>
            <a:r>
              <a:rPr b="0" i="1" lang="el-GR" sz="3200" spc="-1" strike="noStrike">
                <a:solidFill>
                  <a:srgbClr val="000000"/>
                </a:solidFill>
                <a:latin typeface="Arial"/>
              </a:rPr>
              <a:t>, </a:t>
            </a:r>
            <a:r>
              <a:rPr b="0" i="1" lang="el-GR" sz="3200" spc="-1" strike="noStrike">
                <a:solidFill>
                  <a:srgbClr val="000000"/>
                </a:solidFill>
                <a:latin typeface="Arial"/>
                <a:ea typeface="Arial"/>
              </a:rPr>
              <a:t>διαχείρισης της τάξης</a:t>
            </a: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ανάπτυξης διδακτικού συμβολαίου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15920" y="-103320"/>
            <a:ext cx="9479160" cy="2237040"/>
          </a:xfrm>
          <a:prstGeom prst="rect">
            <a:avLst/>
          </a:prstGeom>
          <a:ln w="0">
            <a:noFill/>
          </a:ln>
        </p:spPr>
      </p:pic>
      <p:sp>
        <p:nvSpPr>
          <p:cNvPr id="373" name=""/>
          <p:cNvSpPr txBox="1"/>
          <p:nvPr/>
        </p:nvSpPr>
        <p:spPr>
          <a:xfrm>
            <a:off x="0" y="1785600"/>
            <a:ext cx="9144000" cy="5072040"/>
          </a:xfrm>
          <a:prstGeom prst="rect">
            <a:avLst/>
          </a:prstGeom>
          <a:solidFill>
            <a:srgbClr val="ffffff"/>
          </a:solidFill>
          <a:ln w="0">
            <a:noFill/>
          </a:ln>
        </p:spPr>
        <p:txBody>
          <a:bodyPr anchor="t">
            <a:normAutofit fontScale="83000"/>
          </a:bodyPr>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ea typeface="Arial"/>
              </a:rPr>
              <a:t>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ισαγωγή της πίεσης ως πρωταρχικού μεγέθους, ποιοτικά και με μέτρηση, αντί της παραδοσιακής εισαγωγής σε σχέση με τη δύναμη</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e3b30"/>
                </a:solidFill>
                <a:latin typeface="Arial"/>
                <a:ea typeface="Arial"/>
              </a:rPr>
              <a:t>Ρ = </a:t>
            </a:r>
            <a:r>
              <a:rPr b="1" i="1" lang="en-US" sz="2400" spc="-1" strike="noStrike">
                <a:solidFill>
                  <a:srgbClr val="4e3b30"/>
                </a:solidFill>
                <a:latin typeface="Arial"/>
                <a:ea typeface="Arial"/>
              </a:rPr>
              <a:t>F</a:t>
            </a:r>
            <a:r>
              <a:rPr b="1" i="1" lang="el-GR" sz="2400" spc="-1" strike="noStrike">
                <a:solidFill>
                  <a:srgbClr val="4e3b30"/>
                </a:solidFill>
                <a:latin typeface="Arial"/>
                <a:ea typeface="Arial"/>
              </a:rPr>
              <a:t> / </a:t>
            </a:r>
            <a:r>
              <a:rPr b="1" i="1" lang="en-US" sz="2400" spc="-1" strike="noStrike">
                <a:solidFill>
                  <a:srgbClr val="4e3b30"/>
                </a:solidFill>
                <a:latin typeface="Arial"/>
                <a:ea typeface="Arial"/>
              </a:rPr>
              <a:t>S</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    </a:t>
            </a:r>
            <a:r>
              <a:rPr b="0" i="1" lang="el-GR" sz="2400" spc="-1" strike="noStrike">
                <a:solidFill>
                  <a:srgbClr val="4e3b30"/>
                </a:solidFill>
                <a:latin typeface="Arial"/>
                <a:ea typeface="Arial"/>
              </a:rPr>
              <a:t>γιατί ενισχύει τις εναλλακτικές διαισθητικές ιδέες των μαθητευομένων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νοποίηση υγρών και αερίων στην κατηγορία των ρευστών, αφού γι αυτά έχει νόημα ή πίεση. Δηλ. Ενιαία  διαπραγμάτευση της πίεσης υγρών και αερίων</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Πρόταση για θεώρηση της άνωσης ως «συνδέσμου» μηχανικής στερεών – ρευστών  </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74680" y="433440"/>
            <a:ext cx="8508960" cy="1687320"/>
          </a:xfrm>
          <a:prstGeom prst="rect">
            <a:avLst/>
          </a:prstGeom>
          <a:ln w="0">
            <a:noFill/>
          </a:ln>
        </p:spPr>
      </p:pic>
      <p:sp>
        <p:nvSpPr>
          <p:cNvPr id="375" name=""/>
          <p:cNvSpPr txBox="1"/>
          <p:nvPr/>
        </p:nvSpPr>
        <p:spPr>
          <a:xfrm>
            <a:off x="285840" y="2060640"/>
            <a:ext cx="8534160" cy="41925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Όλα τα φαινόμενα και πειράματα είναι κατάλληλα έργα μαθητείας και διδασκαλίας;;</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Ποια τα κριτήρια επιλογής των έργων;;;</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Τα έργα πρέπει να προσαρμόζονται μάλλον στο μαθητή παρά στο περιεχόμενο: βοηθούν στο ξεπέρασμα των γνωστικών απαιτήσεων των μαθη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85480" y="259920"/>
            <a:ext cx="8429400" cy="6240600"/>
          </a:xfrm>
          <a:prstGeom prst="rect">
            <a:avLst/>
          </a:prstGeom>
          <a:solidFill>
            <a:srgbClr val="ffffff"/>
          </a:solid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a:t>
            </a:r>
            <a:r>
              <a:rPr b="0" i="1" lang="el-GR" sz="3200" spc="-1" strike="noStrike">
                <a:solidFill>
                  <a:srgbClr val="00000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249120" y="109440"/>
            <a:ext cx="8761680" cy="1042920"/>
          </a:xfrm>
          <a:prstGeom prst="rect">
            <a:avLst/>
          </a:prstGeom>
          <a:ln w="0">
            <a:noFill/>
          </a:ln>
        </p:spPr>
      </p:pic>
      <p:pic>
        <p:nvPicPr>
          <p:cNvPr id="378" name="Εικόνα 2" descr=""/>
          <p:cNvPicPr/>
          <p:nvPr/>
        </p:nvPicPr>
        <p:blipFill>
          <a:blip r:embed="rId2"/>
          <a:stretch/>
        </p:blipFill>
        <p:spPr>
          <a:xfrm>
            <a:off x="108000" y="1125360"/>
            <a:ext cx="88646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Τίτλος 1" descr=""/>
          <p:cNvPicPr/>
          <p:nvPr/>
        </p:nvPicPr>
        <p:blipFill>
          <a:blip r:embed="rId1"/>
          <a:stretch/>
        </p:blipFill>
        <p:spPr>
          <a:xfrm>
            <a:off x="249120" y="109440"/>
            <a:ext cx="8761680" cy="1042920"/>
          </a:xfrm>
          <a:prstGeom prst="rect">
            <a:avLst/>
          </a:prstGeom>
          <a:ln w="0">
            <a:noFill/>
          </a:ln>
        </p:spPr>
      </p:pic>
      <p:pic>
        <p:nvPicPr>
          <p:cNvPr id="380" name="Εικόνα 3" descr=""/>
          <p:cNvPicPr/>
          <p:nvPr/>
        </p:nvPicPr>
        <p:blipFill>
          <a:blip r:embed="rId2"/>
          <a:stretch/>
        </p:blipFill>
        <p:spPr>
          <a:xfrm>
            <a:off x="117360" y="1038240"/>
            <a:ext cx="8855280" cy="56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Τίτλος 1" descr=""/>
          <p:cNvPicPr/>
          <p:nvPr/>
        </p:nvPicPr>
        <p:blipFill>
          <a:blip r:embed="rId1"/>
          <a:stretch/>
        </p:blipFill>
        <p:spPr>
          <a:xfrm>
            <a:off x="281160" y="109440"/>
            <a:ext cx="8697600" cy="1079640"/>
          </a:xfrm>
          <a:prstGeom prst="rect">
            <a:avLst/>
          </a:prstGeom>
          <a:ln w="0">
            <a:noFill/>
          </a:ln>
        </p:spPr>
      </p:pic>
      <p:pic>
        <p:nvPicPr>
          <p:cNvPr id="382" name="Εικόνα 2" descr=""/>
          <p:cNvPicPr/>
          <p:nvPr/>
        </p:nvPicPr>
        <p:blipFill>
          <a:blip r:embed="rId2"/>
          <a:stretch/>
        </p:blipFill>
        <p:spPr>
          <a:xfrm>
            <a:off x="285840" y="1052640"/>
            <a:ext cx="846288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285840" y="139716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Α) Η </a:t>
            </a:r>
            <a:r>
              <a:rPr b="1" lang="en-US" sz="3200" spc="-1" strike="noStrike">
                <a:solidFill>
                  <a:srgbClr val="800000"/>
                </a:solidFill>
                <a:latin typeface="Times New Roman"/>
              </a:rPr>
              <a:t>(</a:t>
            </a:r>
            <a:r>
              <a:rPr b="1" lang="el-GR" sz="3200" spc="-1" strike="noStrike">
                <a:solidFill>
                  <a:srgbClr val="800000"/>
                </a:solidFill>
                <a:latin typeface="Times New Roman"/>
              </a:rPr>
              <a:t>συστηματική</a:t>
            </a:r>
            <a:r>
              <a:rPr b="1" lang="en-US" sz="3200" spc="-1" strike="noStrike">
                <a:solidFill>
                  <a:srgbClr val="800000"/>
                </a:solidFill>
                <a:latin typeface="Times New Roman"/>
              </a:rPr>
              <a:t>) </a:t>
            </a:r>
            <a:r>
              <a:rPr b="1" lang="el-GR" sz="3200" spc="-1" strike="noStrike">
                <a:solidFill>
                  <a:srgbClr val="800000"/>
                </a:solidFill>
                <a:latin typeface="Times New Roman"/>
              </a:rPr>
              <a:t>Παρατήρηση και Περιγραφή αντικειμένων και φαινομένων</a:t>
            </a:r>
            <a:endParaRPr b="0" lang="en-US" sz="3200" spc="-1" strike="noStrike">
              <a:solidFill>
                <a:srgbClr val="000000"/>
              </a:solidFill>
              <a:latin typeface="Times New Roman"/>
            </a:endParaRPr>
          </a:p>
        </p:txBody>
      </p:sp>
      <p:sp>
        <p:nvSpPr>
          <p:cNvPr id="323" name="Rectangle 5"/>
          <p:cNvSpPr/>
          <p:nvPr/>
        </p:nvSpPr>
        <p:spPr>
          <a:xfrm>
            <a:off x="268200" y="34178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Γ) Η Μέτρηση φυσικών μεγεθών</a:t>
            </a:r>
            <a:endParaRPr b="0" lang="en-US" sz="3200" spc="-1" strike="noStrike">
              <a:solidFill>
                <a:srgbClr val="000000"/>
              </a:solidFill>
              <a:latin typeface="Times New Roman"/>
            </a:endParaRPr>
          </a:p>
        </p:txBody>
      </p:sp>
      <p:sp>
        <p:nvSpPr>
          <p:cNvPr id="324" name="Rectangle 6"/>
          <p:cNvSpPr/>
          <p:nvPr/>
        </p:nvSpPr>
        <p:spPr>
          <a:xfrm>
            <a:off x="268200" y="41324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Δ) Η δημιουργία και ο έλεγχος υποθέσεων</a:t>
            </a:r>
            <a:endParaRPr b="0" lang="en-US" sz="3200" spc="-1" strike="noStrike">
              <a:solidFill>
                <a:srgbClr val="000000"/>
              </a:solidFill>
              <a:latin typeface="Times New Roman"/>
            </a:endParaRPr>
          </a:p>
        </p:txBody>
      </p:sp>
      <p:sp>
        <p:nvSpPr>
          <p:cNvPr id="325" name="Rectangle 7"/>
          <p:cNvSpPr/>
          <p:nvPr/>
        </p:nvSpPr>
        <p:spPr>
          <a:xfrm>
            <a:off x="285840" y="489888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Ε) Η επικοινωνία των αποτελεσμάτων</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Rectangle 8"/>
          <p:cNvSpPr/>
          <p:nvPr/>
        </p:nvSpPr>
        <p:spPr>
          <a:xfrm>
            <a:off x="285840" y="563868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τ) Οι ταξινομήσεις – κατηγοριοποιήσεις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ειροθετήσεις</a:t>
            </a:r>
            <a:endParaRPr b="0" lang="en-US" sz="3200" spc="-1" strike="noStrike">
              <a:solidFill>
                <a:srgbClr val="000000"/>
              </a:solidFill>
              <a:latin typeface="Times New Roman"/>
            </a:endParaRPr>
          </a:p>
        </p:txBody>
      </p:sp>
      <p:pic>
        <p:nvPicPr>
          <p:cNvPr id="327" name="Rectangle 9" descr=""/>
          <p:cNvPicPr/>
          <p:nvPr/>
        </p:nvPicPr>
        <p:blipFill>
          <a:blip r:embed="rId1"/>
          <a:stretch/>
        </p:blipFill>
        <p:spPr>
          <a:xfrm>
            <a:off x="-6480" y="-103320"/>
            <a:ext cx="9156960" cy="1876680"/>
          </a:xfrm>
          <a:prstGeom prst="rect">
            <a:avLst/>
          </a:prstGeom>
          <a:ln w="0">
            <a:noFill/>
          </a:ln>
        </p:spPr>
      </p:pic>
      <p:sp>
        <p:nvSpPr>
          <p:cNvPr id="328" name="Rectangle 5"/>
          <p:cNvSpPr/>
          <p:nvPr/>
        </p:nvSpPr>
        <p:spPr>
          <a:xfrm>
            <a:off x="268200" y="25970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00000"/>
                </a:solidFill>
                <a:latin typeface="Times New Roman"/>
              </a:rPr>
              <a:t>Β) Η πρόβλεψη / δημιουργία υποθέσε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Τίτλος 1" descr=""/>
          <p:cNvPicPr/>
          <p:nvPr/>
        </p:nvPicPr>
        <p:blipFill>
          <a:blip r:embed="rId1"/>
          <a:stretch/>
        </p:blipFill>
        <p:spPr>
          <a:xfrm>
            <a:off x="281160" y="109440"/>
            <a:ext cx="8697600" cy="1042920"/>
          </a:xfrm>
          <a:prstGeom prst="rect">
            <a:avLst/>
          </a:prstGeom>
          <a:ln w="0">
            <a:noFill/>
          </a:ln>
        </p:spPr>
      </p:pic>
      <p:pic>
        <p:nvPicPr>
          <p:cNvPr id="384" name="Εικόνα 2" descr=""/>
          <p:cNvPicPr/>
          <p:nvPr/>
        </p:nvPicPr>
        <p:blipFill>
          <a:blip r:embed="rId2"/>
          <a:stretch/>
        </p:blipFill>
        <p:spPr>
          <a:xfrm>
            <a:off x="285840" y="1116000"/>
            <a:ext cx="870084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165240" y="-6480"/>
            <a:ext cx="9601200" cy="3230640"/>
          </a:xfrm>
          <a:prstGeom prst="rect">
            <a:avLst/>
          </a:prstGeom>
          <a:ln w="0">
            <a:noFill/>
          </a:ln>
        </p:spPr>
      </p:pic>
      <p:sp>
        <p:nvSpPr>
          <p:cNvPr id="386" name=""/>
          <p:cNvSpPr txBox="1"/>
          <p:nvPr/>
        </p:nvSpPr>
        <p:spPr>
          <a:xfrm>
            <a:off x="0" y="3142800"/>
            <a:ext cx="9144000" cy="3714840"/>
          </a:xfrm>
          <a:prstGeom prst="rect">
            <a:avLst/>
          </a:prstGeom>
          <a:solidFill>
            <a:srgbClr val="ffff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ea typeface="Arial"/>
              </a:rPr>
              <a:t>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λικία ή και το επίπεδο νοητικής ανάπτυξ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οι προϋπάρχουσες αναπαραστάσει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τα</a:t>
            </a:r>
            <a:r>
              <a:rPr b="0" lang="el-GR" sz="3200" spc="-1" strike="noStrike">
                <a:solidFill>
                  <a:srgbClr val="000000"/>
                </a:solidFill>
                <a:latin typeface="Arial"/>
              </a:rPr>
              <a:t> </a:t>
            </a:r>
            <a:r>
              <a:rPr b="0" lang="el-GR" sz="3200" spc="-1" strike="noStrike">
                <a:solidFill>
                  <a:srgbClr val="000000"/>
                </a:solidFill>
                <a:latin typeface="Arial"/>
                <a:ea typeface="Arial"/>
              </a:rPr>
              <a:t>ενδιαφέροντα των μαθητών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 σχετική βαρύτητα του περιεχομένου στο </a:t>
            </a:r>
            <a:r>
              <a:rPr b="0" lang="el-GR" sz="3200" spc="-1" strike="noStrike">
                <a:solidFill>
                  <a:srgbClr val="000000"/>
                </a:solidFill>
                <a:latin typeface="Arial"/>
              </a:rPr>
              <a:t>                  </a:t>
            </a:r>
            <a:r>
              <a:rPr b="0" lang="el-GR" sz="3200" spc="-1" strike="noStrike">
                <a:solidFill>
                  <a:srgbClr val="000000"/>
                </a:solidFill>
                <a:latin typeface="Arial"/>
                <a:ea typeface="Arial"/>
              </a:rPr>
              <a:t>σύνολο</a:t>
            </a:r>
            <a:r>
              <a:rPr b="0" lang="el-GR" sz="3200" spc="-1" strike="noStrike">
                <a:solidFill>
                  <a:srgbClr val="000000"/>
                </a:solidFill>
                <a:latin typeface="Arial"/>
              </a:rPr>
              <a:t> </a:t>
            </a:r>
            <a:r>
              <a:rPr b="0" lang="el-GR" sz="3200" spc="-1" strike="noStrike">
                <a:solidFill>
                  <a:srgbClr val="000000"/>
                </a:solidFill>
                <a:latin typeface="Arial"/>
                <a:ea typeface="Arial"/>
              </a:rPr>
              <a:t>της επιστημονικής γνώσ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9440" y="-176040"/>
            <a:ext cx="9497880" cy="2236680"/>
          </a:xfrm>
          <a:prstGeom prst="rect">
            <a:avLst/>
          </a:prstGeom>
          <a:ln w="0">
            <a:noFill/>
          </a:ln>
        </p:spPr>
      </p:pic>
      <p:sp>
        <p:nvSpPr>
          <p:cNvPr id="388" name=""/>
          <p:cNvSpPr txBox="1"/>
          <p:nvPr/>
        </p:nvSpPr>
        <p:spPr>
          <a:xfrm>
            <a:off x="0" y="1785600"/>
            <a:ext cx="9144000" cy="507204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Οι μαγνητικές ιδιότητες ως «τραβά» και «σπρώχνει»</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λεύση / βύθιση και το «βαρύ για το μέγεθός του»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υκνότητα μέσω της αναπαράστασης «κυβάκι με τελείτσες»</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ως πρωταρχικό μέγεθος που περιγράφει ή και ερμηνεύει φαινόμενα κίνησης και ερμηνείας ρευστών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1 - Τίτλος" descr=""/>
          <p:cNvPicPr/>
          <p:nvPr/>
        </p:nvPicPr>
        <p:blipFill>
          <a:blip r:embed="rId1"/>
          <a:stretch/>
        </p:blipFill>
        <p:spPr>
          <a:xfrm>
            <a:off x="317520" y="103320"/>
            <a:ext cx="8582040" cy="1512720"/>
          </a:xfrm>
          <a:prstGeom prst="rect">
            <a:avLst/>
          </a:prstGeom>
          <a:ln w="0">
            <a:noFill/>
          </a:ln>
        </p:spPr>
      </p:pic>
      <p:sp>
        <p:nvSpPr>
          <p:cNvPr id="390" name="PlaceHolder 1"/>
          <p:cNvSpPr>
            <a:spLocks noGrp="1"/>
          </p:cNvSpPr>
          <p:nvPr>
            <p:ph type="subTitle"/>
          </p:nvPr>
        </p:nvSpPr>
        <p:spPr>
          <a:xfrm>
            <a:off x="178920" y="1557360"/>
            <a:ext cx="8713800" cy="4943520"/>
          </a:xfrm>
          <a:prstGeom prst="rect">
            <a:avLst/>
          </a:prstGeom>
          <a:solidFill>
            <a:srgbClr val="ffffff"/>
          </a:solidFill>
          <a:ln w="0">
            <a:noFill/>
          </a:ln>
        </p:spPr>
        <p:txBody>
          <a:bodyPr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	</a:t>
            </a: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Εννοούμε κάθε αλλαγή στο επιστημονικό περιεχόμενο των ΦΕ σε γνώση που είναι κατάλληλη να διδαχτεί στο στοχούμενο πληθυσμό, π.χ. Νήπιο, Δημοτικό, Γυμνάσιο κλπ για να γίνει κατανοητό</a:t>
            </a: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Μπορεί να αφορά απαλοιφή κάποιου μέρους του περιεχομένου, απλοποίηση π.χ. απαλοιφή μαθηματικού φορμαλισμού στο Δημοτικό, αλλά και τροποποίηση, στα όρια της απόλυτης επιστημονικής ακρίβειας, για λόγους διδακτικούς</a:t>
            </a:r>
            <a:endParaRPr b="0" lang="en-US" sz="24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1 - Τίτλος" descr=""/>
          <p:cNvPicPr/>
          <p:nvPr/>
        </p:nvPicPr>
        <p:blipFill>
          <a:blip r:embed="rId1"/>
          <a:stretch/>
        </p:blipFill>
        <p:spPr>
          <a:xfrm>
            <a:off x="390600" y="-23760"/>
            <a:ext cx="8240760" cy="1023840"/>
          </a:xfrm>
          <a:prstGeom prst="rect">
            <a:avLst/>
          </a:prstGeom>
          <a:ln w="0">
            <a:noFill/>
          </a:ln>
        </p:spPr>
      </p:pic>
      <p:sp>
        <p:nvSpPr>
          <p:cNvPr id="392" name=""/>
          <p:cNvSpPr txBox="1"/>
          <p:nvPr/>
        </p:nvSpPr>
        <p:spPr>
          <a:xfrm>
            <a:off x="250920" y="836280"/>
            <a:ext cx="8642160" cy="5761080"/>
          </a:xfrm>
          <a:prstGeom prst="rect">
            <a:avLst/>
          </a:prstGeom>
          <a:solidFill>
            <a:srgbClr val="ffffff"/>
          </a:solidFill>
          <a:ln w="0">
            <a:noFill/>
          </a:ln>
        </p:spPr>
        <p:txBody>
          <a:bodyPr anchor="t">
            <a:normAutofit/>
          </a:bodyPr>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Διδακτικός  Μετασχηματισμός (ΔΜ) εισήχθη το 1985, από </a:t>
            </a:r>
            <a:r>
              <a:rPr b="0" lang="en-US" sz="2100" spc="-1" strike="noStrike">
                <a:solidFill>
                  <a:srgbClr val="4e3b30"/>
                </a:solidFill>
                <a:latin typeface="Arial"/>
              </a:rPr>
              <a:t>Chevallard</a:t>
            </a:r>
            <a:r>
              <a:rPr b="0" lang="el-GR" sz="2100" spc="-1" strike="noStrike">
                <a:solidFill>
                  <a:srgbClr val="4e3b30"/>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επίπεδο:</a:t>
            </a:r>
            <a:r>
              <a:rPr b="0" lang="el-GR" sz="2100" spc="-1" strike="noStrike">
                <a:solidFill>
                  <a:srgbClr val="4e3b30"/>
                </a:solidFill>
                <a:latin typeface="Arial"/>
              </a:rPr>
              <a:t> ως αντικείμενο προς διδασκαλία, π.χ. βιβλία, νόμοι κλπ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επίπεδο</a:t>
            </a:r>
            <a:r>
              <a:rPr b="0" lang="el-GR" sz="2100" spc="-1" strike="noStrike">
                <a:solidFill>
                  <a:srgbClr val="4e3b30"/>
                </a:solidFill>
                <a:latin typeface="Arial"/>
              </a:rPr>
              <a:t>: αντικείμενο διδασκαλία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a:t>
            </a:r>
            <a:r>
              <a:rPr b="0" lang="en-US" sz="2100" spc="-1" strike="noStrike">
                <a:solidFill>
                  <a:srgbClr val="4e3b30"/>
                </a:solidFill>
                <a:latin typeface="Arial"/>
              </a:rPr>
              <a:t>Martinand </a:t>
            </a:r>
            <a:r>
              <a:rPr b="0" lang="el-GR" sz="2100" spc="-1" strike="noStrike">
                <a:solidFill>
                  <a:srgbClr val="4e3b30"/>
                </a:solidFill>
                <a:latin typeface="Arial"/>
              </a:rPr>
              <a:t>εμπλούτισε το όρο εισάγοντα στις πρακτικές αναφοράς δηλ και άλλα στοιχεία π.χ. τεχνολογίας καθημερινής ζωή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Έτσι ουσιαστικά συγκροτούν τον όρο "σχολική επιστήμη ή γνώση".</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Εμείς  διακρίναμε (</a:t>
            </a:r>
            <a:r>
              <a:rPr b="0" lang="el-GR" sz="2100" spc="-1" strike="noStrike">
                <a:solidFill>
                  <a:srgbClr val="603b14"/>
                </a:solidFill>
                <a:latin typeface="Arial"/>
              </a:rPr>
              <a:t>Πτυχιακή Στράγγα (δες παρακάτω) και </a:t>
            </a:r>
            <a:r>
              <a:rPr b="0" lang="en-US" sz="2100" spc="-1" strike="noStrike">
                <a:solidFill>
                  <a:srgbClr val="603b14"/>
                </a:solidFill>
                <a:latin typeface="Arial"/>
              </a:rPr>
              <a:t>Educating pre-school student teachers to instructional design </a:t>
            </a:r>
            <a:r>
              <a:rPr b="0" i="1" lang="en-US" sz="2100" spc="-1" strike="noStrike">
                <a:solidFill>
                  <a:srgbClr val="603b14"/>
                </a:solidFill>
                <a:latin typeface="Arial"/>
              </a:rPr>
              <a:t>Petros Kariotoglou, Pinelopi Papadopoulou, Nikolaos Koledinis, Antonios Strangas, ESERA, proceedings, 2013, Cyprus</a:t>
            </a:r>
            <a:r>
              <a:rPr b="0" lang="el-GR" sz="2100" spc="-1" strike="noStrike">
                <a:solidFill>
                  <a:srgbClr val="603b14"/>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μετασχηματισμός </a:t>
            </a:r>
            <a:r>
              <a:rPr b="0" lang="el-GR" sz="2100" spc="-1" strike="noStrike">
                <a:solidFill>
                  <a:srgbClr val="4e3b30"/>
                </a:solidFill>
                <a:latin typeface="Arial"/>
              </a:rPr>
              <a:t>= τι πρέπει να ξέρει ο εκπαιδευτικός και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μετασχηματισμός =</a:t>
            </a:r>
            <a:r>
              <a:rPr b="0" lang="el-GR" sz="2100" spc="-1" strike="noStrike">
                <a:solidFill>
                  <a:srgbClr val="4e3b30"/>
                </a:solidFill>
                <a:latin typeface="Arial"/>
              </a:rPr>
              <a:t> ο μαθητής.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a:solidFill>
                  <a:srgbClr val="4e3b30"/>
                </a:solidFill>
                <a:latin typeface="Arial"/>
              </a:rPr>
              <a:t>Αυτό δεν είναι το ίδιο, με προηγούμενα αλλά μοιάζει. </a:t>
            </a:r>
            <a:endParaRPr b="0" lang="en-US" sz="21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5920"/>
            <a:ext cx="8229600" cy="604836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Έτσι μετακινούμαστε μάλλον στην κατασκευή ΠΣ, παρά σε αυτό που εννοήθηκε ως ΔΜ και κακώς ταυτίστηκε αρχικά με την απλοποίηση, την οποία ωστόσο δεν πρέπει να παραλείπουμε, ούτε να υποτιμούμε. Αποτέλεσμα αυτά που είδαμε στις Βόρειες χώρες ως ΠΣ (Σκανδιναβία, ΗΒ, ..) όπου δίνεται έμφαση στις κοινωνικές πρακτικές αναφοράς, αλλιώς κοινωνική διάσταση της γνώσης, παρά στη γνώση καθεαυτή. Από την άλλη οι Νότιες χώρες (Μεσογειακές) δεν κατάφεραν ένα ουσιαστικό μετασχηματισμό περιλαμβανόμενης της απλοποίησης και το χάσμα διευρύνθηκε. </a:t>
            </a:r>
            <a:endParaRPr b="0" lang="en-US" sz="3000" spc="-1" strike="noStrike">
              <a:solidFill>
                <a:srgbClr val="4e3b30"/>
              </a:solidFill>
              <a:latin typeface="Arial"/>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0560" y="115560"/>
            <a:ext cx="8785080" cy="6553080"/>
          </a:xfrm>
          <a:prstGeom prst="rect">
            <a:avLst/>
          </a:prstGeom>
          <a:solidFill>
            <a:srgbClr val="ffffff"/>
          </a:solidFill>
          <a:ln w="0">
            <a:noFill/>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Arial"/>
              </a:rPr>
              <a:t>Ο Κολιόπουλος (</a:t>
            </a:r>
            <a:r>
              <a:rPr b="0" lang="el-GR" sz="2700" spc="-1" strike="noStrike">
                <a:solidFill>
                  <a:srgbClr val="603b14"/>
                </a:solidFill>
                <a:latin typeface="Arial"/>
              </a:rPr>
              <a:t>Θέματα διδακτικής φυσικών επιστημών: Η συγκρότηση της σχολικής γνώσης, Μεταίχμιο, 2006</a:t>
            </a:r>
            <a:r>
              <a:rPr b="0" lang="el-GR" sz="2700" spc="-1" strike="noStrike">
                <a:solidFill>
                  <a:srgbClr val="3b2c24"/>
                </a:solidFill>
                <a:latin typeface="Arial"/>
              </a:rPr>
              <a:t>)</a:t>
            </a:r>
            <a:r>
              <a:rPr b="0" lang="el-GR" sz="2700" spc="-1" strike="noStrike">
                <a:solidFill>
                  <a:srgbClr val="4e3b30"/>
                </a:solidFill>
                <a:latin typeface="Arial"/>
              </a:rPr>
              <a:t>, επηρεασμένος από τη Γαλλική Σχολή, θεωρεί ότι η σχολική γνώση αποπλαισιώνεται σε σχέση με την επιστημονική, αφού "αποκρύβονται" συνειδητά ή όχι σημαντικά στοιχεία π.χ. η ιστορική εξέλιξη των εννοιών. Μπαίνει τελικά ένα μεγάλο πρόβλημα της συγκρότησης, ως κατασκευής, της σχολικής επιστήμης. Άρα ξεφεύγουμε από τον στενό μετασχηματισμό και πάμε στη συγκρότηση, άλλου γνωστικού πεδίου που κι αυτό γεννιέται εντός ενός εκπαιδευτικού / ψυχολογικού / κοινωνικού πλαισίου. π.χ. δεν είναι δυνατόν να παραγνωρίσουμε τις εννοιολογικές δυσκολίες των μαθητών, οι οποίες μπορεί να μας καθορίσουν το "περιοδικό σύστημα των εννοιών ΦΕ", αλλά ούτε τις επιστημολογικές, οπότε μοιραία μπαίνει το θέμα και της ιστορικής εξέλιξης. </a:t>
            </a:r>
            <a:endParaRPr b="0" lang="en-US" sz="2700" spc="-1" strike="noStrike">
              <a:solidFill>
                <a:srgbClr val="4e3b30"/>
              </a:solidFill>
              <a:latin typeface="Arial"/>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8000" y="189000"/>
            <a:ext cx="8856720" cy="6480000"/>
          </a:xfrm>
          <a:prstGeom prst="rect">
            <a:avLst/>
          </a:prstGeom>
          <a:solidFill>
            <a:srgbClr val="ffffff"/>
          </a:solid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Μια πτυχή του ΔΜ είναι η "ποιοτική φυσική", δηλ. χωρίς μαθηματικό φορμαλισμό, αλλά με λογικομαθηματικές σχέσεις εφαρμογή των οποίων μπορούν να κάνουν οι μαθητές ακόμη και Προσχολικής μέσω πειραματικών εφαρμογών.  Υπάρχουν παραδείγματα από την προσχολική, δες διδασκαλία μέρας / νύχτας (</a:t>
            </a:r>
            <a:r>
              <a:rPr b="0" lang="el-GR" sz="2200" spc="-1" strike="noStrike">
                <a:solidFill>
                  <a:srgbClr val="603b14"/>
                </a:solidFill>
                <a:latin typeface="Arial"/>
              </a:rPr>
              <a:t>Μελέτη διδασκαλίας και μάθησης του φαινομένου Μέρας – Νύχτας στην Προσχολική Εκπαίδευση. Α. Στράγγας, πτυχιακή εργασία, 2012, ΠΤΝ ΠΔΜ</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δασκαλία πυκνότητας στο </a:t>
            </a:r>
            <a:r>
              <a:rPr b="0" lang="en-US" sz="2200" spc="-1" strike="noStrike">
                <a:solidFill>
                  <a:srgbClr val="4e3b30"/>
                </a:solidFill>
                <a:latin typeface="Arial"/>
              </a:rPr>
              <a:t>Materials Science</a:t>
            </a:r>
            <a:r>
              <a:rPr b="0" lang="el-GR" sz="2200" spc="-1" strike="noStrike">
                <a:solidFill>
                  <a:srgbClr val="4e3b30"/>
                </a:solidFill>
                <a:latin typeface="Arial"/>
              </a:rPr>
              <a:t> (</a:t>
            </a:r>
            <a:r>
              <a:rPr b="0" lang="de-DE" sz="2200" spc="-1" strike="noStrike">
                <a:solidFill>
                  <a:srgbClr val="603b14"/>
                </a:solidFill>
                <a:latin typeface="Arial"/>
              </a:rPr>
              <a:t>MaterialsScience Project: University-school partnerships for the design and implementation of research-based ICT-enhanced modules on Material Propert</a:t>
            </a:r>
            <a:r>
              <a:rPr b="0" lang="en-US" sz="2200" spc="-1" strike="noStrike">
                <a:solidFill>
                  <a:srgbClr val="603b14"/>
                </a:solidFill>
                <a:latin typeface="Arial"/>
              </a:rPr>
              <a:t>ies</a:t>
            </a:r>
            <a:r>
              <a:rPr b="0" lang="de-DE" sz="2200" spc="-1" strike="noStrike">
                <a:solidFill>
                  <a:srgbClr val="4e3b30"/>
                </a:solidFill>
                <a:latin typeface="Arial"/>
              </a:rPr>
              <a:t>e</a:t>
            </a:r>
            <a:r>
              <a:rPr b="0" lang="el-GR" sz="2200" spc="-1" strike="noStrike">
                <a:solidFill>
                  <a:srgbClr val="4e3b30"/>
                </a:solidFill>
                <a:latin typeface="Arial"/>
              </a:rPr>
              <a:t>) ή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απραγμάτευση της πίεσης στο Γυμνάσιο και τη διάκριση πίεσης δύναμης (</a:t>
            </a:r>
            <a:r>
              <a:rPr b="0" lang="de-DE" sz="2200" spc="-1" strike="noStrike">
                <a:solidFill>
                  <a:srgbClr val="603b14"/>
                </a:solidFill>
                <a:latin typeface="Arial"/>
              </a:rPr>
              <a:t>Προβλήματα διδασκαλίας και μάθησης της  Μηχανικής  των  Ρευστών   στο   Γυμνάσιο, Αδημοσίευτη Διδακτορική Διατριβή, ΚΑΡΙΩΤΟΓΛΟΥ,  Π., ΑΠΘ, Τμήμα Φυσικής, 350</a:t>
            </a:r>
            <a:r>
              <a:rPr b="0" lang="el-GR" sz="2200" spc="-1" strike="noStrike">
                <a:solidFill>
                  <a:srgbClr val="603b14"/>
                </a:solidFill>
                <a:latin typeface="Arial"/>
              </a:rPr>
              <a:t>, 1991</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692280"/>
            <a:ext cx="8686800" cy="53877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ε κάθε περίπτωση παραμένει το πρόβλημα της επιστημολογικής εγκυρότητας του ΔΜΠ. Ως ποιο σημείο μπορούμε να μετασχηματίσουμε το περιεχόμενο;;;</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rPr>
              <a:t>Μια εύλογη απάντηση είναι: το κριτήριο είναι η διατήρηση των βασικών αρχών της πειραματικής μεθοδολογίας (Β. </a:t>
            </a:r>
            <a:r>
              <a:rPr b="0" lang="el-GR" sz="3200" spc="-1" strike="noStrike">
                <a:solidFill>
                  <a:srgbClr val="603b14"/>
                </a:solidFill>
                <a:latin typeface="Arial"/>
              </a:rPr>
              <a:t>Τσελφές</a:t>
            </a:r>
            <a:r>
              <a:rPr b="0" lang="el-GR" sz="3200" spc="-1" strike="noStrike">
                <a:solidFill>
                  <a:srgbClr val="4e3b30"/>
                </a:solidFill>
                <a:latin typeface="Arial"/>
              </a:rPr>
              <a:t>).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λλά το ζήτημα είναι ανοικτό.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Λύση: οι δημοσιεύσεις: </a:t>
            </a:r>
            <a:r>
              <a:rPr b="0" lang="en-US" sz="3200" spc="-1" strike="noStrike">
                <a:solidFill>
                  <a:srgbClr val="4e3b30"/>
                </a:solidFill>
                <a:latin typeface="Arial"/>
              </a:rPr>
              <a:t>peer reviewing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 Τίτλος" descr=""/>
          <p:cNvPicPr/>
          <p:nvPr/>
        </p:nvPicPr>
        <p:blipFill>
          <a:blip r:embed="rId1"/>
          <a:stretch/>
        </p:blipFill>
        <p:spPr>
          <a:xfrm>
            <a:off x="-23760" y="-66600"/>
            <a:ext cx="8996400" cy="1139760"/>
          </a:xfrm>
          <a:prstGeom prst="rect">
            <a:avLst/>
          </a:prstGeom>
          <a:ln w="0">
            <a:noFill/>
          </a:ln>
        </p:spPr>
      </p:pic>
      <p:sp>
        <p:nvSpPr>
          <p:cNvPr id="398" name=""/>
          <p:cNvSpPr txBox="1"/>
          <p:nvPr/>
        </p:nvSpPr>
        <p:spPr>
          <a:xfrm>
            <a:off x="179280" y="836640"/>
            <a:ext cx="8785440" cy="5905440"/>
          </a:xfrm>
          <a:prstGeom prst="rect">
            <a:avLst/>
          </a:prstGeom>
          <a:solidFill>
            <a:srgbClr val="ffffff"/>
          </a:solidFill>
          <a:ln w="0">
            <a:noFill/>
          </a:ln>
        </p:spPr>
        <p:txBody>
          <a:bodyPr anchor="t">
            <a:normAutofit fontScale="96000"/>
          </a:bodyPr>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ημαντική πτυχή είναι ο μετασχηματισμός της μεθοδολογικής συνιστώσας (</a:t>
            </a:r>
            <a:r>
              <a:rPr b="0" lang="el-GR" sz="2400" spc="-1" strike="noStrike">
                <a:solidFill>
                  <a:srgbClr val="603b14"/>
                </a:solidFill>
                <a:latin typeface="Arial"/>
              </a:rPr>
              <a:t>Κολιόπουλος όπου πριν</a:t>
            </a:r>
            <a:r>
              <a:rPr b="0" lang="el-GR" sz="2400" spc="-1" strike="noStrike">
                <a:solidFill>
                  <a:srgbClr val="4e3b30"/>
                </a:solidFill>
                <a:latin typeface="Arial"/>
              </a:rPr>
              <a:t>). Αν και σήμερα αμφισβητούνται οι επαγωγικές/εμπειριστικές από τις αντίστοιχες εποικοδομητικές προσεγγίσεις, εντούτοις οι πρώτες ευδοκιμούν στην προσχολική και υποχρεωτική εκπαίδευση. Δες π.χ.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Διάκριση μαγνητών ανάλογα με τη μαγνητική ισχύ τους (</a:t>
            </a:r>
            <a:r>
              <a:rPr b="0" lang="de-DE" sz="2400" spc="-1" strike="noStrike">
                <a:solidFill>
                  <a:srgbClr val="603b14"/>
                </a:solidFill>
                <a:latin typeface="Arial"/>
              </a:rPr>
              <a:t>Διπλωματική Εργασί</a:t>
            </a:r>
            <a:r>
              <a:rPr b="0" lang="el-GR" sz="2400" spc="-1" strike="noStrike">
                <a:solidFill>
                  <a:srgbClr val="603b14"/>
                </a:solidFill>
                <a:latin typeface="Arial"/>
              </a:rPr>
              <a:t>α, </a:t>
            </a:r>
            <a:r>
              <a:rPr b="0" lang="de-DE" sz="2400" spc="-1" strike="noStrike">
                <a:solidFill>
                  <a:srgbClr val="603b14"/>
                </a:solidFill>
                <a:latin typeface="Arial"/>
              </a:rPr>
              <a:t>ΤΕΜΕΡΤΖΙΔΟΥ ΕΥΑΝΘΙΑ: Μελέτη της ικανότητας παιδιών προσχολικής και πρωτο-σχολικής ηλικίας να ταξινομούν υλικά με βάση τις μαγνητικές τους ιδιότητες</a:t>
            </a:r>
            <a:r>
              <a:rPr b="0" lang="el-GR" sz="2400" spc="-1" strike="noStrike">
                <a:solidFill>
                  <a:srgbClr val="603b14"/>
                </a:solidFill>
                <a:latin typeface="Arial"/>
              </a:rPr>
              <a:t>, 2012, ΠΤΝ - ΠΔΜ</a:t>
            </a:r>
            <a:r>
              <a:rPr b="0" lang="el-GR" sz="2400" spc="-1" strike="noStrike">
                <a:solidFill>
                  <a:srgbClr val="4e3b30"/>
                </a:solidFill>
                <a:latin typeface="Arial"/>
              </a:rPr>
              <a:t>)  ή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ΕΜ (Στρατηγική Ελέγχου Μεταβλητών) στο Δημοτικό (</a:t>
            </a:r>
            <a:r>
              <a:rPr b="0" lang="de-DE" sz="2400" spc="-1" strike="noStrike">
                <a:solidFill>
                  <a:srgbClr val="603b14"/>
                </a:solidFill>
                <a:latin typeface="Arial"/>
              </a:rPr>
              <a:t>Διδακτορική Διατριβή</a:t>
            </a:r>
            <a:r>
              <a:rPr b="0" lang="el-GR" sz="2400" spc="-1" strike="noStrike">
                <a:solidFill>
                  <a:srgbClr val="603b14"/>
                </a:solidFill>
                <a:latin typeface="Arial"/>
              </a:rPr>
              <a:t> </a:t>
            </a:r>
            <a:r>
              <a:rPr b="0" lang="de-DE" sz="2400" spc="-1" strike="noStrike">
                <a:solidFill>
                  <a:srgbClr val="603b14"/>
                </a:solidFill>
                <a:latin typeface="Arial"/>
              </a:rPr>
              <a:t>ΖΟΥΠΙΔΗΣ ΑΝΑΣΤΑΣΙΟΣ: Διδασκαλία και μάθηση με τη χρήση μοντέλων Φυσικών Επιστημών και Τεχνολογίας: εφαρμογή στα φαινόμενα της πλεύσης / βύθισης</a:t>
            </a:r>
            <a:r>
              <a:rPr b="0" lang="el-GR" sz="2400" spc="-1" strike="noStrike">
                <a:solidFill>
                  <a:srgbClr val="603b14"/>
                </a:solidFill>
                <a:latin typeface="Arial"/>
              </a:rPr>
              <a:t>, 2012, ΠΤΝ-ΠΔΜ</a:t>
            </a:r>
            <a:r>
              <a:rPr b="0" lang="el-GR" sz="2400" spc="-1" strike="noStrike">
                <a:solidFill>
                  <a:srgbClr val="4e3b30"/>
                </a:solidFill>
                <a:latin typeface="Arial"/>
              </a:rPr>
              <a:t>)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4" descr=""/>
          <p:cNvPicPr/>
          <p:nvPr/>
        </p:nvPicPr>
        <p:blipFill>
          <a:blip r:embed="rId1"/>
          <a:stretch/>
        </p:blipFill>
        <p:spPr>
          <a:xfrm>
            <a:off x="-12600" y="-6480"/>
            <a:ext cx="9163080" cy="1884600"/>
          </a:xfrm>
          <a:prstGeom prst="rect">
            <a:avLst/>
          </a:prstGeom>
          <a:ln w="0">
            <a:noFill/>
          </a:ln>
        </p:spPr>
      </p:pic>
      <p:sp>
        <p:nvSpPr>
          <p:cNvPr id="330" name=""/>
          <p:cNvSpPr txBox="1"/>
          <p:nvPr/>
        </p:nvSpPr>
        <p:spPr>
          <a:xfrm>
            <a:off x="0" y="1980720"/>
            <a:ext cx="9144000" cy="44197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είναι μια ευχάριστη διαδικασ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οι δεξιότητες αυτές συνθέτουν ένα βασικό πλέγμα ικανοτήτων που είναι απαραίτητες για τη λειτουργία του παιδιού στον κοινωνικό περίγυρο και την κοινωνία της γνώσης.</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η ανάπτυξη αυτών των δεξιοτήτων θα στηρίξει αργότερα την εννοιολογική κατανόηση των Φυσικών Επιστημώ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ειράματα (πράξη) χωρίς Θεωρ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 Τίτλος" descr=""/>
          <p:cNvPicPr/>
          <p:nvPr/>
        </p:nvPicPr>
        <p:blipFill>
          <a:blip r:embed="rId1"/>
          <a:stretch/>
        </p:blipFill>
        <p:spPr>
          <a:xfrm>
            <a:off x="6480" y="-60480"/>
            <a:ext cx="8966160" cy="1024200"/>
          </a:xfrm>
          <a:prstGeom prst="rect">
            <a:avLst/>
          </a:prstGeom>
          <a:ln w="0">
            <a:noFill/>
          </a:ln>
        </p:spPr>
      </p:pic>
      <p:sp>
        <p:nvSpPr>
          <p:cNvPr id="400" name=""/>
          <p:cNvSpPr txBox="1"/>
          <p:nvPr/>
        </p:nvSpPr>
        <p:spPr>
          <a:xfrm>
            <a:off x="179280" y="620640"/>
            <a:ext cx="8785440" cy="6121440"/>
          </a:xfrm>
          <a:prstGeom prst="rect">
            <a:avLst/>
          </a:prstGeom>
          <a:solidFill>
            <a:srgbClr val="ffffff"/>
          </a:solidFill>
          <a:ln w="0">
            <a:noFill/>
          </a:ln>
        </p:spPr>
        <p:txBody>
          <a:bodyPr anchor="t">
            <a:normAutofit fontScale="90000"/>
          </a:bodyPr>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Ελατήρια / Ελαστικότητα  (</a:t>
            </a:r>
            <a:r>
              <a:rPr b="0" lang="el-GR" sz="2600" spc="-1" strike="noStrike">
                <a:solidFill>
                  <a:srgbClr val="603b14"/>
                </a:solidFill>
                <a:latin typeface="Arial"/>
              </a:rPr>
              <a:t>Ανακοίνωση στο:  Δ' Πανελλήνιο Συνέδριο Φυσικής, Αθήνα, </a:t>
            </a:r>
            <a:r>
              <a:rPr b="0" lang="el-GR" sz="2600" spc="-1" strike="noStrike" u="sng">
                <a:solidFill>
                  <a:srgbClr val="603b14"/>
                </a:solidFill>
                <a:uFillTx/>
                <a:latin typeface="Arial"/>
              </a:rPr>
              <a:t>ΚΑΡΙΩΤΟΓΛΟΥ, Π.</a:t>
            </a:r>
            <a:r>
              <a:rPr b="0" lang="el-GR" sz="2600" spc="-1" strike="noStrike">
                <a:solidFill>
                  <a:srgbClr val="603b14"/>
                </a:solidFill>
                <a:latin typeface="Arial"/>
              </a:rPr>
              <a:t>,  ΚΟΛΙΟΠΟΥΛΟΣ, Δ.,  ΚΟΥΜΑΡΑΣ, Π.,  ΨΥΛΛΟΣ, Δ., 1986,  Διδακτικά μοντέλα: Οι ανακαλυπτικές επιδείξεις και η εφαρμογή τους στη διδασκαλία της ελαστικότητας στο Γυμνάσιο</a:t>
            </a:r>
            <a:r>
              <a:rPr b="0" lang="el-GR" sz="2600" spc="-1" strike="noStrike">
                <a:solidFill>
                  <a:srgbClr val="4e3b30"/>
                </a:solidFill>
                <a:latin typeface="Arial"/>
              </a:rPr>
              <a:t>) </a:t>
            </a: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Στην ίδια κατεύθυνση κινείται ο ΔΜ όταν αφορά άσκηση των επιστημονικών ικανοτήτων ή δεξιοτήτων όπως η παρατήρηση, ταξινόμηση, μέτρηση, σειροθέτηση κλπ. Π.χ. πάλι Τεμερτζίδου  2012 και Βιολογικά (</a:t>
            </a:r>
            <a:r>
              <a:rPr b="0" lang="de-DE" sz="2600" spc="-1" strike="noStrike">
                <a:solidFill>
                  <a:srgbClr val="603b14"/>
                </a:solidFill>
                <a:latin typeface="Arial"/>
              </a:rPr>
              <a:t>ΜΕΛΕΤΗ ΤΗΣ ΙΚΑΝΟΤΗΤΑΣ ΠΑΙΔΙΩΝ ΠΡΟΣΧΟΛΙΚΗΣ ΚΑΙ ΠΡΩΤΟΣΧΟΛΙΚΗΣ ΗΛΙΚΙΑΣ ΝΑ ΤΑΞΙΝΟΜΟΥΝ ΖΩΑ ΜΕ ΒΑΣΗ ΤΑ ΜΟΡΦΟΛΟΓΙΚΑ ΤΟΥΣ ΧΑΡΑΚΤΗΡΙΣΤΙΚΑ , Κέρλοβα, Άννα, 2013, </a:t>
            </a:r>
            <a:r>
              <a:rPr b="0" lang="el-GR" sz="2600" spc="-1" strike="noStrike">
                <a:solidFill>
                  <a:srgbClr val="603b14"/>
                </a:solidFill>
                <a:latin typeface="Arial"/>
              </a:rPr>
              <a:t>ΠΤΝ ΠΔΜ)</a:t>
            </a:r>
            <a:endParaRPr b="0" lang="en-US" sz="26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 </a:t>
            </a:r>
            <a:endParaRPr b="0" lang="en-US" sz="2800" spc="-1" strike="noStrike">
              <a:solidFill>
                <a:srgbClr val="4e3b30"/>
              </a:solidFill>
              <a:latin typeface="Arial"/>
            </a:endParaRPr>
          </a:p>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Τίτλος 1" descr=""/>
          <p:cNvPicPr/>
          <p:nvPr/>
        </p:nvPicPr>
        <p:blipFill>
          <a:blip r:embed="rId1"/>
          <a:stretch/>
        </p:blipFill>
        <p:spPr>
          <a:xfrm>
            <a:off x="298440" y="255600"/>
            <a:ext cx="8699400" cy="1152360"/>
          </a:xfrm>
          <a:prstGeom prst="rect">
            <a:avLst/>
          </a:prstGeom>
          <a:ln w="0">
            <a:noFill/>
          </a:ln>
        </p:spPr>
      </p:pic>
      <p:sp>
        <p:nvSpPr>
          <p:cNvPr id="402" name=""/>
          <p:cNvSpPr txBox="1"/>
          <p:nvPr/>
        </p:nvSpPr>
        <p:spPr>
          <a:xfrm>
            <a:off x="304920" y="1554120"/>
            <a:ext cx="8686800" cy="482760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θέμα είναι σημαντικό</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χετίζεται με τις δυσκολίες μάθησης του περιεχομένου ιδιαίτερα στην Υποχρεωτική εκπαίδευση</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Ένα ρεύμα σαν το εποικοδομητικό του 1980-90 θα μπορούσ ένα αλλάξει την εκπαίδευση των ΦΕ, και ίσως όχι μόνο αυ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1026" descr=""/>
          <p:cNvPicPr/>
          <p:nvPr/>
        </p:nvPicPr>
        <p:blipFill>
          <a:blip r:embed="rId1"/>
          <a:stretch/>
        </p:blipFill>
        <p:spPr>
          <a:xfrm>
            <a:off x="298440" y="450720"/>
            <a:ext cx="8699400" cy="854280"/>
          </a:xfrm>
          <a:prstGeom prst="rect">
            <a:avLst/>
          </a:prstGeom>
          <a:ln w="0">
            <a:noFill/>
          </a:ln>
        </p:spPr>
      </p:pic>
      <p:sp>
        <p:nvSpPr>
          <p:cNvPr id="332" name=""/>
          <p:cNvSpPr txBox="1"/>
          <p:nvPr/>
        </p:nvSpPr>
        <p:spPr>
          <a:xfrm>
            <a:off x="0" y="2928960"/>
            <a:ext cx="9144000" cy="3929040"/>
          </a:xfrm>
          <a:prstGeom prst="rect">
            <a:avLst/>
          </a:prstGeom>
          <a:solidFill>
            <a:srgbClr val="ffffff"/>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990033"/>
                </a:solidFill>
                <a:latin typeface="Arial"/>
              </a:rPr>
              <a:t>Αυτά που έχουν:</a:t>
            </a:r>
            <a:endParaRPr b="0" lang="en-US" sz="3000" spc="-1" strike="noStrike">
              <a:solidFill>
                <a:srgbClr val="4e3b3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Οικείες και ενδιαφέρουσες εφαρμογέ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Εύκολα και σχετικά επιτυχή πειράματα μέτρηση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Στοιχεία πειραματικής μεθοδολογίας</a:t>
            </a:r>
            <a:endParaRPr b="0" lang="en-US" sz="3000" spc="-1" strike="noStrike">
              <a:solidFill>
                <a:srgbClr val="4e3b30"/>
              </a:solidFill>
              <a:latin typeface="Arial"/>
            </a:endParaRPr>
          </a:p>
        </p:txBody>
      </p:sp>
      <p:pic>
        <p:nvPicPr>
          <p:cNvPr id="333" name="Text Box 1028" descr=""/>
          <p:cNvPicPr/>
          <p:nvPr/>
        </p:nvPicPr>
        <p:blipFill>
          <a:blip r:embed="rId2"/>
          <a:stretch/>
        </p:blipFill>
        <p:spPr>
          <a:xfrm>
            <a:off x="-6480" y="-219240"/>
            <a:ext cx="9156960" cy="321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5" descr=""/>
          <p:cNvPicPr/>
          <p:nvPr/>
        </p:nvPicPr>
        <p:blipFill>
          <a:blip r:embed="rId1"/>
          <a:stretch/>
        </p:blipFill>
        <p:spPr>
          <a:xfrm>
            <a:off x="530280" y="262080"/>
            <a:ext cx="8242200" cy="1268280"/>
          </a:xfrm>
          <a:prstGeom prst="rect">
            <a:avLst/>
          </a:prstGeom>
          <a:ln w="0">
            <a:noFill/>
          </a:ln>
        </p:spPr>
      </p:pic>
      <p:sp>
        <p:nvSpPr>
          <p:cNvPr id="335" name=""/>
          <p:cNvSpPr txBox="1"/>
          <p:nvPr/>
        </p:nvSpPr>
        <p:spPr>
          <a:xfrm>
            <a:off x="456840" y="1294920"/>
            <a:ext cx="8381880" cy="5302440"/>
          </a:xfrm>
          <a:prstGeom prst="rect">
            <a:avLst/>
          </a:prstGeom>
          <a:solidFill>
            <a:srgbClr val="ffffff"/>
          </a:solid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Εύκολα ανακαλύπτονται θέματα που υπάρχουν …..</a:t>
            </a:r>
            <a:r>
              <a:rPr b="0" lang="el-GR" sz="2600" spc="-1" strike="noStrike">
                <a:solidFill>
                  <a:srgbClr val="000066"/>
                </a:solidFill>
                <a:latin typeface="Arial"/>
              </a:rPr>
              <a:t>  </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Ιδιότητες και ταξινομήσεις σωμάτ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χέσεις μεγεθών και φαινομέν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φαρμογές σχέσεων και αρχώ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τοιχεία μεθοδολογίας</a:t>
            </a:r>
            <a:endParaRPr b="0" lang="en-US" sz="2600" spc="-1" strike="noStrike">
              <a:solidFill>
                <a:srgbClr val="4e3b30"/>
              </a:solidFill>
              <a:latin typeface="Arial"/>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a:t>
            </a:r>
            <a:r>
              <a:rPr b="0" lang="el-GR" sz="2600" spc="-1" strike="noStrike" u="sng">
                <a:solidFill>
                  <a:srgbClr val="990033"/>
                </a:solidFill>
                <a:uFillTx/>
                <a:latin typeface="Arial"/>
              </a:rPr>
              <a:t>. αλλά όχι θέματα που είναι νοητικές κατασκευές</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Έννοιε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ρμηνευτικά μοντέλα</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Μικρόκοσμο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56760" y="1857240"/>
            <a:ext cx="8425080" cy="4538880"/>
          </a:xfrm>
          <a:prstGeom prst="rect">
            <a:avLst/>
          </a:prstGeom>
          <a:solidFill>
            <a:srgbClr val="ffffff"/>
          </a:solidFill>
          <a:ln w="0">
            <a:noFill/>
          </a:ln>
        </p:spPr>
        <p:txBody>
          <a:bodyPr anchor="t">
            <a:normAutofit/>
          </a:bodyPr>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α μπορούσε να θεωρηθεί το (τρέχον) παράδειγμα της ΔΦΕ</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Προτείνει μια ολιστική θεώρηση της εκπαίδευσης των μαθητών /τριών, που προσεγγίζει αυτή των επιστημόνων, με τη σχετική αναπλαισίωση </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Διευρύνει την ανακαλυπτική μέθοδο με την πιο ανοιχτή διερεύνηση, αλλά προσθέτει και άλλα στοιχεία όπως «διάβασμα» και «γράψιμο»</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έτει ως προϋπόθεση τα κίνητρα και το ενδιαφέρον για τη μάθηση</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pic>
        <p:nvPicPr>
          <p:cNvPr id="337" name="Rectangle 4" descr=""/>
          <p:cNvPicPr/>
          <p:nvPr/>
        </p:nvPicPr>
        <p:blipFill>
          <a:blip r:embed="rId1"/>
          <a:stretch/>
        </p:blipFill>
        <p:spPr>
          <a:xfrm>
            <a:off x="353880" y="420840"/>
            <a:ext cx="843624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TextBox"/>
          <p:cNvSpPr/>
          <p:nvPr/>
        </p:nvSpPr>
        <p:spPr>
          <a:xfrm>
            <a:off x="214200" y="263520"/>
            <a:ext cx="8715600" cy="64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ΟΝΤΕΛΟ ΤΗΣ ΔΙΕΡΕΥΝΗΣΗ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ΕΙ ΕΠΕΚΤΑΣΗ ΤΗΣ ΑΝΑΚΑΛΥΨΗΣ ΚΥΡΙΩΣ ΠΡΟΣ ΠΙΟ «ΑΝΟΙΧΤΗ ΕΡΕΥΝΑ» ΣΥΝΔΥΑΖΕΤΑΙ ΜΕ ΤΟ «ΓΡΑΨΙΜΟ» ΚΑΙ ΤΟ «ΔΙΑΒΑΣΜΑ» ΕΠΙΣΤΗΜΟΝΙΚΩΝ ΚΕΙΜΕΝΩΝ Ή ΚΑΙ ΤΗ ΧΡΗΣΗ ΚΑΤΑΛΛΗΛΟΥ ΛΟΓΙΣΜΙΚΟΥ</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ΑΡΑΠΑΝΩ ΕΊΝΑΙ ΔΥΣΚΟΛΑ ΓΙΑ ΝΗΠΙΑ ΛΟΓΩ ΤΗΣ ΗΛΙΚΙΑΣ – ΑΝΤΙΛΗΠΤΙΚΗΣ ΙΚΑΝΟΤΗΤΑΣ ΤΩΝ ΝΗΠΙΩΝ</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ΤΣΙ ΠΕΡΙΟΡΙΖΟΜΑΣΤΕ ΣΕ ΠΙΟ ΚΑΘΟΔΗΓΟΥΜΕΝΗ ΕΡΕΥΝΑ</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ΛΛΑ ΙΔΑΝΙΚΑ ΓΙΑ ΜΕΓΑΛΥΤΕΡΟΥΣ ΜΑΘΗΤΕΣ Π.Χ. 10-15 ΕΤΩΝ</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1 - Τίτλος" descr=""/>
          <p:cNvPicPr/>
          <p:nvPr/>
        </p:nvPicPr>
        <p:blipFill>
          <a:blip r:embed="rId1"/>
          <a:stretch/>
        </p:blipFill>
        <p:spPr>
          <a:xfrm>
            <a:off x="420840" y="420840"/>
            <a:ext cx="8412120" cy="1828800"/>
          </a:xfrm>
          <a:prstGeom prst="rect">
            <a:avLst/>
          </a:prstGeom>
          <a:ln w="0">
            <a:noFill/>
          </a:ln>
        </p:spPr>
      </p:pic>
      <p:sp>
        <p:nvSpPr>
          <p:cNvPr id="340" name=""/>
          <p:cNvSpPr txBox="1"/>
          <p:nvPr/>
        </p:nvSpPr>
        <p:spPr>
          <a:xfrm>
            <a:off x="428760" y="2571480"/>
            <a:ext cx="8229600" cy="1214280"/>
          </a:xfrm>
          <a:prstGeom prst="rect">
            <a:avLst/>
          </a:prstGeom>
          <a:blipFill rotWithShape="0">
            <a:blip r:embed="rId2"/>
            <a:tile tx="0" ty="0" sx="100000" sy="100000" algn="ctr"/>
          </a:blipFill>
          <a:ln w="0">
            <a:noFill/>
          </a:ln>
        </p:spPr>
        <p:txBody>
          <a:bodyPr anchor="b">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523227"/>
                </a:solidFill>
                <a:uFillTx/>
                <a:latin typeface="Arial"/>
              </a:rPr>
              <a:t>Ταξινόμηση υλικών σε μαγνητικά (έλκονται από τον μαγνήτη) και μη</a:t>
            </a:r>
            <a:endParaRPr b="0" lang="en-US" sz="3000" spc="-1" strike="noStrike">
              <a:solidFill>
                <a:srgbClr val="4e3b30"/>
              </a:solidFill>
              <a:latin typeface="Arial"/>
            </a:endParaRPr>
          </a:p>
        </p:txBody>
      </p:sp>
      <p:sp>
        <p:nvSpPr>
          <p:cNvPr id="341" name="2 - Θέση περιεχομένου"/>
          <p:cNvSpPr/>
          <p:nvPr/>
        </p:nvSpPr>
        <p:spPr>
          <a:xfrm>
            <a:off x="428760" y="4500720"/>
            <a:ext cx="8229600" cy="15714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ίδειξη από τον εκπαιδευτικό 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μαδική εργασία (καθοδηγούμεν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0:35:42Z</dcterms:created>
  <dc:creator>qwerty</dc:creator>
  <dc:description/>
  <dc:language>en-US</dc:language>
  <cp:lastModifiedBy>user</cp:lastModifiedBy>
  <dcterms:modified xsi:type="dcterms:W3CDTF">2019-05-25T09:31:39Z</dcterms:modified>
  <cp:revision>184</cp:revision>
  <dc:subject/>
  <dc:title>Κρίσιμα Ερωτήματα</dc:title>
</cp:coreProperties>
</file>